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6FE-645F-42A2-91A3-9E2E9EB7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FA6-22B9-4ADB-A3A0-5C6FA9C1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E53-FE99-49CF-B060-67FBBB62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7A5-41F4-4ED1-B8A8-5C7FA001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506-2FC4-4659-BC19-AB7C9704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D86-189C-40FC-B810-E4AA2B8D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BAF-0E6E-4556-9440-26B3CB70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AB3-E9AF-4CF3-9973-E4764012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0DF-776C-4A9E-8D98-FB3748E2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0FD-507D-4948-B62F-C84327D5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A81-903B-454B-A189-FF75A8A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787-C6D6-4837-BCEA-F77E1FE8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4B02-6F72-438A-B05A-BC55F8D0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76280"/>
            <a:ext cx="8594640" cy="5840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14480" y="32846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TERVAL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TOR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UNTI  PER UN INSI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27320" y="2262240"/>
            <a:ext cx="42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VALLI E INTO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7600" y="4726080"/>
            <a:ext cx="2589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requisiti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- Insiemi                         - Disequ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60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VALLI LIMI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75480" y="638172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ERVALLI E INTORNI    1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765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1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i due numeri reali  a e b, con  a &lt; b, si chia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8840" y="1557360"/>
            <a:ext cx="474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VALLO APERT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] a , b [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insieme dei numeri reali x tali che   a &lt; x &lt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227640" y="1766880"/>
            <a:ext cx="2448000" cy="583920"/>
            <a:chOff x="6227640" y="1766880"/>
            <a:chExt cx="2448000" cy="583920"/>
          </a:xfrm>
        </p:grpSpPr>
        <p:sp>
          <p:nvSpPr>
            <p:cNvPr id="50" name=""/>
            <p:cNvSpPr/>
            <p:nvPr/>
          </p:nvSpPr>
          <p:spPr>
            <a:xfrm>
              <a:off x="6227640" y="191124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0920" y="198252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75640" y="1766880"/>
              <a:ext cx="1152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04000" y="1838160"/>
              <a:ext cx="1112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4920" y="1838160"/>
              <a:ext cx="1112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91400" y="2630520"/>
            <a:ext cx="4862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VALLO CHIUS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[ a , b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insieme dei numeri reali x tali che   a ≤ x ≤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227640" y="2846520"/>
            <a:ext cx="2448000" cy="583920"/>
            <a:chOff x="6227640" y="2846520"/>
            <a:chExt cx="2448000" cy="583920"/>
          </a:xfrm>
        </p:grpSpPr>
        <p:sp>
          <p:nvSpPr>
            <p:cNvPr id="57" name=""/>
            <p:cNvSpPr/>
            <p:nvPr/>
          </p:nvSpPr>
          <p:spPr>
            <a:xfrm>
              <a:off x="6689880" y="306216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7640" y="299088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75640" y="2846520"/>
              <a:ext cx="1152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04000" y="29178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54920" y="29178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00480" y="3860640"/>
            <a:ext cx="4801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VALLO APERTO  A DESTR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[ a , b [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insieme dei numeri reali x tali che   a ≤ x &lt;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227640" y="4076640"/>
            <a:ext cx="2448000" cy="584280"/>
            <a:chOff x="6227640" y="4076640"/>
            <a:chExt cx="2448000" cy="584280"/>
          </a:xfrm>
        </p:grpSpPr>
        <p:sp>
          <p:nvSpPr>
            <p:cNvPr id="64" name=""/>
            <p:cNvSpPr/>
            <p:nvPr/>
          </p:nvSpPr>
          <p:spPr>
            <a:xfrm>
              <a:off x="6227640" y="42210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30920" y="4292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5640" y="4076640"/>
              <a:ext cx="1152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4000" y="4148280"/>
              <a:ext cx="11124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54920" y="4148280"/>
              <a:ext cx="11124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42680" y="5078520"/>
            <a:ext cx="4801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VALLO APERTO  A SINISTR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] a , b ]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insieme dei numeri reali x tali che   a &lt; x ≤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27640" y="5294160"/>
            <a:ext cx="2448000" cy="584280"/>
            <a:chOff x="6227640" y="5294160"/>
            <a:chExt cx="2448000" cy="584280"/>
          </a:xfrm>
        </p:grpSpPr>
        <p:sp>
          <p:nvSpPr>
            <p:cNvPr id="71" name=""/>
            <p:cNvSpPr/>
            <p:nvPr/>
          </p:nvSpPr>
          <p:spPr>
            <a:xfrm>
              <a:off x="6227640" y="543888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0920" y="55101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75640" y="5294160"/>
              <a:ext cx="1152360" cy="14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04000" y="5365800"/>
              <a:ext cx="1112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54920" y="53658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60280"/>
            <a:ext cx="33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VALLI ILLIMI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765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2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o un numero reale  a  qualsiasi, si chia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1520" y="1557360"/>
            <a:ext cx="4752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VALLO ILLIMITATO SUP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insieme dei numeri reali x tali che    x ≥ 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82920" y="2703600"/>
            <a:ext cx="51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703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62560" y="2558880"/>
            <a:ext cx="3960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35720" y="243360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[ a , </a:t>
            </a:r>
            <a:r>
              <a:rPr b="1" i="1" lang="en-US" sz="2000" spc="-1" strike="noStrike">
                <a:solidFill>
                  <a:srgbClr val="0066ff"/>
                </a:solidFill>
                <a:latin typeface="Comic Sans MS"/>
              </a:rPr>
              <a:t>+</a:t>
            </a:r>
            <a:r>
              <a:rPr b="1" i="1" lang="en-US" sz="2400" spc="-1" strike="noStrike">
                <a:solidFill>
                  <a:srgbClr val="0066ff"/>
                </a:solidFill>
                <a:latin typeface="StarMath"/>
                <a:ea typeface="StarMath"/>
              </a:rPr>
              <a:t></a:t>
            </a: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 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5160" y="3141720"/>
            <a:ext cx="4752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VALLO ILLIMITATO INF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’insieme dei numeri reali x tali che    x ≤ 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4560" y="4287960"/>
            <a:ext cx="51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54560" y="4143240"/>
            <a:ext cx="3960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29600" y="40179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] - </a:t>
            </a:r>
            <a:r>
              <a:rPr b="1" i="1" lang="en-US" sz="2400" spc="-1" strike="noStrike">
                <a:solidFill>
                  <a:srgbClr val="0066ff"/>
                </a:solidFill>
                <a:latin typeface="StarMath"/>
                <a:ea typeface="StarMath"/>
              </a:rPr>
              <a:t></a:t>
            </a:r>
            <a:r>
              <a:rPr b="0" i="1" lang="en-US" sz="1800" spc="-1" strike="noStrike">
                <a:solidFill>
                  <a:srgbClr val="0066ff"/>
                </a:solidFill>
                <a:latin typeface="Comic Sans MS"/>
              </a:rPr>
              <a:t>, a</a:t>
            </a:r>
            <a:r>
              <a:rPr b="0" i="1" lang="en-US" sz="2000" spc="-1" strike="noStrike">
                <a:solidFill>
                  <a:srgbClr val="0066ff"/>
                </a:solidFill>
                <a:latin typeface="Comic Sans MS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7280" y="4357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00" y="4653000"/>
            <a:ext cx="8348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Osservazio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 intervallo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limit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è in corrispondenza con i punti di un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 intervallo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illimit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è in corrispondenza con i punti di una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semi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ervallo ] - </a:t>
            </a:r>
            <a:r>
              <a:rPr b="1" i="1" lang="it-IT" sz="1800" spc="-1" strike="noStrike">
                <a:solidFill>
                  <a:srgbClr val="000000"/>
                </a:solidFill>
                <a:latin typeface="StarMath"/>
                <a:ea typeface="StarMath"/>
              </a:rPr>
              <a:t>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+</a:t>
            </a:r>
            <a:r>
              <a:rPr b="1" i="1" lang="it-IT" sz="1800" spc="-1" strike="noStrike">
                <a:solidFill>
                  <a:srgbClr val="000000"/>
                </a:solidFill>
                <a:latin typeface="StarMath"/>
                <a:ea typeface="StarMath"/>
              </a:rPr>
              <a:t>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[  è in corrispondenza con i punti di una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rett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e rappresenta l’insieme dei numeri Re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75480" y="638172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ERVALLI E INTORNI    2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84720" y="5295960"/>
            <a:ext cx="2016360" cy="293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60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OR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76500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i chia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55736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ORNO COMPLET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l pun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qualsiasi intervallo aperto che conteng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88000" y="1766880"/>
            <a:ext cx="3744720" cy="590400"/>
            <a:chOff x="4788000" y="1766880"/>
            <a:chExt cx="3744720" cy="590400"/>
          </a:xfrm>
        </p:grpSpPr>
        <p:sp>
          <p:nvSpPr>
            <p:cNvPr id="95" name=""/>
            <p:cNvSpPr/>
            <p:nvPr/>
          </p:nvSpPr>
          <p:spPr>
            <a:xfrm>
              <a:off x="5219640" y="1766880"/>
              <a:ext cx="2735280" cy="14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8000" y="1916280"/>
              <a:ext cx="37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76720" y="1989000"/>
              <a:ext cx="30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                 c  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8360" y="1844640"/>
              <a:ext cx="1108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16760" y="1838160"/>
              <a:ext cx="1112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48400" y="1844640"/>
              <a:ext cx="1112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28480" y="2720880"/>
            <a:ext cx="40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ORNO DESTR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l pun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qualsiasi intervallo aperto che abbia c come estremo s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88000" y="2917800"/>
            <a:ext cx="3816360" cy="584280"/>
            <a:chOff x="4788000" y="2917800"/>
            <a:chExt cx="3816360" cy="584280"/>
          </a:xfrm>
        </p:grpSpPr>
        <p:sp>
          <p:nvSpPr>
            <p:cNvPr id="103" name=""/>
            <p:cNvSpPr/>
            <p:nvPr/>
          </p:nvSpPr>
          <p:spPr>
            <a:xfrm>
              <a:off x="6445080" y="31338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  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788000" y="3062160"/>
              <a:ext cx="3816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88000" y="2917800"/>
              <a:ext cx="1368720" cy="14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16720" y="2995560"/>
              <a:ext cx="1112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83640" y="2989440"/>
              <a:ext cx="11088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788000" y="4141800"/>
            <a:ext cx="3816360" cy="584280"/>
            <a:chOff x="4788000" y="4141800"/>
            <a:chExt cx="3816360" cy="584280"/>
          </a:xfrm>
        </p:grpSpPr>
        <p:sp>
          <p:nvSpPr>
            <p:cNvPr id="109" name=""/>
            <p:cNvSpPr/>
            <p:nvPr/>
          </p:nvSpPr>
          <p:spPr>
            <a:xfrm>
              <a:off x="4788000" y="4286160"/>
              <a:ext cx="3816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6720" y="43578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                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9640" y="4141800"/>
              <a:ext cx="1368360" cy="14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48360" y="4219560"/>
              <a:ext cx="1108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15280" y="4213080"/>
              <a:ext cx="1108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9640" y="3881520"/>
            <a:ext cx="40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ORNO SINISTR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del pun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n qualsiasi intervallo aperto che abbia c come estremo de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2880" y="4941720"/>
            <a:ext cx="4100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66ff"/>
                </a:solidFill>
                <a:latin typeface="Arial"/>
              </a:rPr>
              <a:t>Proprietà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ersezione di due intorni di un  punto c  è ancora un intorno  dello stesso pun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5432400"/>
            <a:ext cx="2016360" cy="149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58180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558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5157720"/>
            <a:ext cx="1151280" cy="43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48400" y="5510160"/>
            <a:ext cx="1112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75480" y="638172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ERVALLI E INTORNI    3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260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62064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o un intervallo  ( a , b)  di qualsiasi natura e un punto c,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si dice che c è un p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64952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NO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per ( a 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esiste un intorno di c interamente contenuto in ( a , b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628640"/>
            <a:ext cx="2735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16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6720" y="19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                  c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1773360"/>
            <a:ext cx="11509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92760" y="1844640"/>
            <a:ext cx="1112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801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ESTERN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per ( a 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esiste un intorno di c non contenuto in ( a , b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2781360"/>
            <a:ext cx="223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67280" y="3068640"/>
            <a:ext cx="4608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67200" y="314172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             a   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2925720"/>
            <a:ext cx="11509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2997360"/>
            <a:ext cx="11124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88152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I FRONTIER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per ( a 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non è né interno e né esterno per ( a , b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3860640"/>
            <a:ext cx="2232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67280" y="4148280"/>
            <a:ext cx="4608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429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= a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4005360"/>
            <a:ext cx="11509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45120" y="4076640"/>
            <a:ext cx="1112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9608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I ACCUMULAZION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per ( a 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e in ogni intorno di c  cadono punti di ( a , b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istinti d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75480" y="638172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ERVALLI E INTORNI    4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260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620640"/>
            <a:ext cx="7488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o un intervallo  ( a , b)  di qualsiasi natura e un punto c,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si dice che  </a:t>
            </a:r>
            <a:r>
              <a:rPr b="1" lang="en-US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44640"/>
            <a:ext cx="4392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ESTREMO INFERIOR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per ( a , b)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1.  x  ≥ 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( a 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&gt; 0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siste 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[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6920" y="1951200"/>
            <a:ext cx="27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5280" y="22384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231156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6920" y="2095560"/>
            <a:ext cx="9367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68760" y="2166840"/>
            <a:ext cx="1112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98560" y="2311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45560" y="231156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05000" y="23115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2203560"/>
            <a:ext cx="1112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86040" y="23050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81800" y="2197080"/>
            <a:ext cx="1112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184560"/>
            <a:ext cx="43923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ESTREMO SUPERIOR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per ( a , b)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1.  x  ≤ 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( a 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&gt; 0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siste 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[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Mural Script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08720" y="3176640"/>
            <a:ext cx="27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346392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01080" y="353700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7280" y="3321000"/>
            <a:ext cx="9367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05840" y="3392640"/>
            <a:ext cx="11124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0400" y="3502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9840" y="3537000"/>
            <a:ext cx="5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Mural Script"/>
              </a:rPr>
              <a:t>-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18040" y="3537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13800" y="3429000"/>
            <a:ext cx="11088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36640" y="3530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32400" y="3422520"/>
            <a:ext cx="1112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442120"/>
            <a:ext cx="496908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e l’estremo superiore appartiene ad ( a , 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punto di dice che è il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MASSIM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87640" y="4506840"/>
            <a:ext cx="496872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e l’estremo inferiore appartiene ad ( a , 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punto di dice che è il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MINIM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75480" y="638172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INTERVALLI E INTORNI    5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5:40:07Z</dcterms:created>
  <dc:creator>Carmelo Ciaramella</dc:creator>
  <dc:description/>
  <dc:language>en-US</dc:language>
  <cp:lastModifiedBy>Carmelo Ciaramella</cp:lastModifiedBy>
  <dcterms:modified xsi:type="dcterms:W3CDTF">2005-09-28T12:39:49Z</dcterms:modified>
  <cp:revision>126</cp:revision>
  <dc:subject/>
  <dc:title>Diapositiva 1</dc:title>
</cp:coreProperties>
</file>