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346-E430-4277-A220-7814F393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7C0-96C0-4880-A7E7-9D63C41F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DC2-96E2-45F5-AF0D-174739C6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808-270E-48E6-B060-2100AD37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A6D-9667-4394-B99F-E15A1808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C609-B968-4EAF-8B05-BF6C33A2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8045-BE37-46F4-AED1-8E821A01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E23-31D2-4592-A01C-48A8884F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98A-8ACA-4B6D-9C25-A4319EC4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501-CE46-4175-AD30-64FBD724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279-4C6A-4FD0-81CA-56FE18CC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ECAE-88F2-443D-AA6E-04DFCCBF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E2B3-6D2D-48D1-A278-DE420EFA3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82240" cy="6096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14480" y="328464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RIMI CONC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SEMPI INTRODU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EFINI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38800" y="2262240"/>
            <a:ext cx="58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RODUZIONE ALLE FUN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4952880"/>
            <a:ext cx="16002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Prerequisiti:                  -  insi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543040" y="3276720"/>
            <a:ext cx="2638440" cy="2247840"/>
            <a:chOff x="2543040" y="3276720"/>
            <a:chExt cx="2638440" cy="2247840"/>
          </a:xfrm>
        </p:grpSpPr>
        <p:sp>
          <p:nvSpPr>
            <p:cNvPr id="46" name=""/>
            <p:cNvSpPr/>
            <p:nvPr/>
          </p:nvSpPr>
          <p:spPr>
            <a:xfrm>
              <a:off x="2543040" y="3619440"/>
              <a:ext cx="2638440" cy="1905120"/>
            </a:xfrm>
            <a:prstGeom prst="cube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82880" y="3317760"/>
              <a:ext cx="603360" cy="609840"/>
            </a:xfrm>
            <a:prstGeom prst="can">
              <a:avLst>
                <a:gd name="adj" fmla="val 2870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78360" y="4253040"/>
              <a:ext cx="150840" cy="6858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2880" y="3276720"/>
              <a:ext cx="603360" cy="2268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495680"/>
            <a:ext cx="1295640" cy="368280"/>
          </a:xfrm>
          <a:prstGeom prst="rect">
            <a:avLst/>
          </a:prstGeom>
          <a:solidFill>
            <a:srgbClr val="afc4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3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533520"/>
            <a:ext cx="83055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IMI CONC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a funzione è un meccanismo matematico che trasforma                                      un numero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(detto variabile indipendente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in un altro numero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(detto variabile dipendente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secondo una certa legge     (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n questo caso la legge 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y = 3x +1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55960" y="6400800"/>
            <a:ext cx="240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INTRODUZIONE ALLE FUNZIONI   1/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41560" y="2327400"/>
            <a:ext cx="609480" cy="860400"/>
            <a:chOff x="2941560" y="2327400"/>
            <a:chExt cx="609480" cy="860400"/>
          </a:xfrm>
        </p:grpSpPr>
        <p:sp>
          <p:nvSpPr>
            <p:cNvPr id="54" name=""/>
            <p:cNvSpPr/>
            <p:nvPr/>
          </p:nvSpPr>
          <p:spPr>
            <a:xfrm>
              <a:off x="3173400" y="273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41560" y="23274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276880" y="4343400"/>
            <a:ext cx="914040" cy="398880"/>
            <a:chOff x="5276880" y="4343400"/>
            <a:chExt cx="914040" cy="398880"/>
          </a:xfrm>
        </p:grpSpPr>
        <p:sp>
          <p:nvSpPr>
            <p:cNvPr id="57" name=""/>
            <p:cNvSpPr/>
            <p:nvPr/>
          </p:nvSpPr>
          <p:spPr>
            <a:xfrm>
              <a:off x="5276880" y="4572000"/>
              <a:ext cx="39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68560" y="434340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920" y="5791320"/>
            <a:ext cx="8839080" cy="745920"/>
            <a:chOff x="304920" y="5791320"/>
            <a:chExt cx="8839080" cy="745920"/>
          </a:xfrm>
        </p:grpSpPr>
        <p:sp>
          <p:nvSpPr>
            <p:cNvPr id="60" name=""/>
            <p:cNvSpPr/>
            <p:nvPr/>
          </p:nvSpPr>
          <p:spPr>
            <a:xfrm>
              <a:off x="304920" y="5791320"/>
              <a:ext cx="883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l caso di questa funzione ad esempio il numero  x = 2  viene trasformato nel numero  y =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2281320" y="6168960"/>
              <a:ext cx="387360" cy="368280"/>
              <a:chOff x="2281320" y="6168960"/>
              <a:chExt cx="387360" cy="368280"/>
            </a:xfrm>
          </p:grpSpPr>
          <p:sp>
            <p:nvSpPr>
              <p:cNvPr id="62" name=""/>
              <p:cNvSpPr/>
              <p:nvPr/>
            </p:nvSpPr>
            <p:spPr>
              <a:xfrm>
                <a:off x="2281320" y="6207120"/>
                <a:ext cx="324000" cy="314280"/>
              </a:xfrm>
              <a:prstGeom prst="octagon">
                <a:avLst>
                  <a:gd name="adj" fmla="val 23231"/>
                </a:avLst>
              </a:prstGeom>
              <a:solidFill>
                <a:srgbClr val="cc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7800" y="6168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720" y="3333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SEMPI INTRODU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17236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50320" y="766800"/>
            <a:ext cx="126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ESEMPIO 1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152388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egnando un valore alla variabile x si ot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 corrispondente valore della variabile 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6640" y="103968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3x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38440" y="2752560"/>
            <a:ext cx="1758600" cy="2616120"/>
            <a:chOff x="838440" y="2752560"/>
            <a:chExt cx="1758600" cy="2616120"/>
          </a:xfrm>
        </p:grpSpPr>
        <p:sp>
          <p:nvSpPr>
            <p:cNvPr id="70" name=""/>
            <p:cNvSpPr/>
            <p:nvPr/>
          </p:nvSpPr>
          <p:spPr>
            <a:xfrm>
              <a:off x="1671480" y="2752560"/>
              <a:ext cx="0" cy="26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8440" y="2800080"/>
              <a:ext cx="17586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       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     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      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      1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     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      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      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3      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43000" y="3193920"/>
              <a:ext cx="11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43200" y="4952880"/>
            <a:ext cx="387360" cy="368280"/>
            <a:chOff x="2743200" y="4952880"/>
            <a:chExt cx="387360" cy="368280"/>
          </a:xfrm>
        </p:grpSpPr>
        <p:sp>
          <p:nvSpPr>
            <p:cNvPr id="74" name=""/>
            <p:cNvSpPr/>
            <p:nvPr/>
          </p:nvSpPr>
          <p:spPr>
            <a:xfrm>
              <a:off x="2743200" y="4991040"/>
              <a:ext cx="324000" cy="314280"/>
            </a:xfrm>
            <a:prstGeom prst="octagon">
              <a:avLst>
                <a:gd name="adj" fmla="val 23231"/>
              </a:avLst>
            </a:prstGeom>
            <a:solidFill>
              <a:srgbClr val="cc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49680" y="49528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029200" y="787320"/>
            <a:ext cx="2673360" cy="4533840"/>
            <a:chOff x="5029200" y="787320"/>
            <a:chExt cx="2673360" cy="4533840"/>
          </a:xfrm>
        </p:grpSpPr>
        <p:grpSp>
          <p:nvGrpSpPr>
            <p:cNvPr id="77" name=""/>
            <p:cNvGrpSpPr/>
            <p:nvPr/>
          </p:nvGrpSpPr>
          <p:grpSpPr>
            <a:xfrm>
              <a:off x="7315200" y="4952880"/>
              <a:ext cx="387360" cy="368280"/>
              <a:chOff x="7315200" y="4952880"/>
              <a:chExt cx="387360" cy="368280"/>
            </a:xfrm>
          </p:grpSpPr>
          <p:sp>
            <p:nvSpPr>
              <p:cNvPr id="78" name=""/>
              <p:cNvSpPr/>
              <p:nvPr/>
            </p:nvSpPr>
            <p:spPr>
              <a:xfrm>
                <a:off x="7315200" y="4991040"/>
                <a:ext cx="324000" cy="314280"/>
              </a:xfrm>
              <a:prstGeom prst="octagon">
                <a:avLst>
                  <a:gd name="adj" fmla="val 23231"/>
                </a:avLst>
              </a:prstGeom>
              <a:solidFill>
                <a:srgbClr val="cc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321680" y="4952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5085720" y="787320"/>
              <a:ext cx="126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SEMPIO 2/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9600" y="1039680"/>
              <a:ext cx="125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 = 2x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-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9200" y="1523880"/>
              <a:ext cx="259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agionando come in precedenza si ottiene la seguente tabella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5258160" y="2705040"/>
              <a:ext cx="1758600" cy="2616120"/>
              <a:chOff x="5258160" y="2705040"/>
              <a:chExt cx="1758600" cy="2616120"/>
            </a:xfrm>
          </p:grpSpPr>
          <p:sp>
            <p:nvSpPr>
              <p:cNvPr id="84" name=""/>
              <p:cNvSpPr/>
              <p:nvPr/>
            </p:nvSpPr>
            <p:spPr>
              <a:xfrm>
                <a:off x="6091200" y="2705040"/>
                <a:ext cx="0" cy="26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258160" y="2752560"/>
                <a:ext cx="1758600" cy="25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       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      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2      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      15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      -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1      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3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562720" y="3146400"/>
                <a:ext cx="114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471600" y="5602320"/>
            <a:ext cx="748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Osservazione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 valori diversi della x possono corrispondere valori uguali della 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 ad  x = 2  e  x = -2  corrisponde  y = 5  nell’esempio  2/3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03680" y="6400800"/>
            <a:ext cx="240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INTRODUZIONE ALLE FUNZIONI   2/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4960" y="4676760"/>
            <a:ext cx="53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17236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772400" y="3962520"/>
            <a:ext cx="387360" cy="368280"/>
            <a:chOff x="7772400" y="3962520"/>
            <a:chExt cx="387360" cy="368280"/>
          </a:xfrm>
        </p:grpSpPr>
        <p:sp>
          <p:nvSpPr>
            <p:cNvPr id="92" name=""/>
            <p:cNvSpPr/>
            <p:nvPr/>
          </p:nvSpPr>
          <p:spPr>
            <a:xfrm>
              <a:off x="7772400" y="4000320"/>
              <a:ext cx="324000" cy="313920"/>
            </a:xfrm>
            <a:prstGeom prst="octagon">
              <a:avLst>
                <a:gd name="adj" fmla="val 23231"/>
              </a:avLst>
            </a:prstGeom>
            <a:solidFill>
              <a:srgbClr val="cc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8880" y="3962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66360" y="685800"/>
            <a:ext cx="126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ESEMPIO 3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9033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gionando come in precedenza si ottiene la seguente tabell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499920" y="1295280"/>
            <a:ext cx="4237920" cy="3168000"/>
            <a:chOff x="3499920" y="1295280"/>
            <a:chExt cx="4237920" cy="3168000"/>
          </a:xfrm>
        </p:grpSpPr>
        <p:sp>
          <p:nvSpPr>
            <p:cNvPr id="97" name=""/>
            <p:cNvSpPr/>
            <p:nvPr/>
          </p:nvSpPr>
          <p:spPr>
            <a:xfrm>
              <a:off x="4338360" y="1295280"/>
              <a:ext cx="0" cy="311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99920" y="1351800"/>
              <a:ext cx="423792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       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on è possibile calcolar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      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       3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      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     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on è possibile calcolar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on è possibile calcolar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on è possibile calcolarl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3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on è possibile calcolarl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9880" y="1820880"/>
              <a:ext cx="11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838080" y="1143000"/>
                <a:ext cx="14479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457200" y="487692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Osservazione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lcune funzioni non accettano determinati valori della variabile indipendent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03680" y="6400800"/>
            <a:ext cx="240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INTRODUZIONE ALLE FUNZIONI   3/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57400" y="2819520"/>
            <a:ext cx="1295280" cy="1066680"/>
          </a:xfrm>
          <a:prstGeom prst="ellipse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3680" y="6400800"/>
            <a:ext cx="240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INTRODUZIONE ALLE FUNZIONI   4/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5160" y="33336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FINI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4640" y="99072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Definizione 1  (definizione generale di funzion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ati due insiemi  A e B , si dic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funzione definita in A a valori in B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na  legge che associa ad ogni elemento di A uno, ed un solo, elemento di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2819520"/>
            <a:ext cx="1295280" cy="1066680"/>
          </a:xfrm>
          <a:prstGeom prst="ellipse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38862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Comic Sans MS"/>
              </a:rPr>
              <a:t>insiem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3886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insiem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2654280"/>
            <a:ext cx="2755800" cy="317520"/>
          </a:xfrm>
          <a:custGeom>
            <a:avLst/>
            <a:gdLst/>
            <a:ahLst/>
            <a:rect l="l" t="t" r="r" b="b"/>
            <a:pathLst>
              <a:path w="1736" h="224">
                <a:moveTo>
                  <a:pt x="0" y="200"/>
                </a:moveTo>
                <a:cubicBezTo>
                  <a:pt x="64" y="177"/>
                  <a:pt x="237" y="97"/>
                  <a:pt x="384" y="64"/>
                </a:cubicBezTo>
                <a:cubicBezTo>
                  <a:pt x="531" y="31"/>
                  <a:pt x="716" y="0"/>
                  <a:pt x="880" y="0"/>
                </a:cubicBezTo>
                <a:cubicBezTo>
                  <a:pt x="1044" y="0"/>
                  <a:pt x="1225" y="27"/>
                  <a:pt x="1368" y="64"/>
                </a:cubicBezTo>
                <a:cubicBezTo>
                  <a:pt x="1511" y="101"/>
                  <a:pt x="1659" y="191"/>
                  <a:pt x="1736" y="2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2362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7242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-    L’insieme  A  si dice DOMINIO  ( o CAMPO DI ESISTENZA,      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o  INSIEME DI DEFINIZIONE)   della  fun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2440" y="560088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-   L’insieme  B  si dice INSIEME DI ARRIVO della fun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094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Definizione 2  (funzione reale di variabile real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e il dominio e l’insieme di arrivo sono insiemi di numeri reali allora la funzione si dirà  FUNZIONE REALE DI VARIABILE RE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3680" y="6400800"/>
            <a:ext cx="240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INTRODUZIONE ALLE FUNZIONI   5/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051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Definizione 3  (immagine di un elemento del dominio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e all’elemento  x  del dominio viene associato, tramite la funzione  f,  l’elemento  y ,  diremo che  “ y  è l’immagine di  x”   e  indicheremo  y col simbolo  f(x)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si legge: “f di x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029960" y="3429000"/>
            <a:ext cx="3624480" cy="2997000"/>
            <a:chOff x="1029960" y="3429000"/>
            <a:chExt cx="3624480" cy="2997000"/>
          </a:xfrm>
        </p:grpSpPr>
        <p:sp>
          <p:nvSpPr>
            <p:cNvPr id="120" name=""/>
            <p:cNvSpPr/>
            <p:nvPr/>
          </p:nvSpPr>
          <p:spPr>
            <a:xfrm>
              <a:off x="1029960" y="3429000"/>
              <a:ext cx="99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SEMPI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41560" y="3809880"/>
              <a:ext cx="123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 = 3x +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895840" y="3809880"/>
              <a:ext cx="1758600" cy="2616120"/>
              <a:chOff x="2895840" y="3809880"/>
              <a:chExt cx="1758600" cy="2616120"/>
            </a:xfrm>
          </p:grpSpPr>
          <p:sp>
            <p:nvSpPr>
              <p:cNvPr id="123" name=""/>
              <p:cNvSpPr/>
              <p:nvPr/>
            </p:nvSpPr>
            <p:spPr>
              <a:xfrm>
                <a:off x="3728880" y="3809880"/>
                <a:ext cx="0" cy="26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95840" y="3857400"/>
                <a:ext cx="1758600" cy="25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       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      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      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      10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      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1      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2      -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3      -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00400" y="4251240"/>
                <a:ext cx="114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5257800" y="38098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questo caso  4  è l’immagine di  1  quindi si scrive:    f(1)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472428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 lo stesso motivo si scrive: f(2)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(3)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(0) = 1        …e così 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013360" y="3022560"/>
            <a:ext cx="1295280" cy="2540160"/>
          </a:xfrm>
          <a:prstGeom prst="ellipse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33520"/>
            <a:ext cx="384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ODOMINIO:  ESEMPIO INTRODUT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4640" y="99072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o  l’insieme   A = { -1, 0, 1, 2, 3, 5 }                                                       l’insieme         B  = { -1, 0, 3, 7, 8, 24, }                                              ed una funzione che ad ogni elemento di A associa un solo elemento di B tramite la legge: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1981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2514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alizziamo le immagini degli elementi di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3003480"/>
            <a:ext cx="1295640" cy="2559240"/>
          </a:xfrm>
          <a:prstGeom prst="ellipse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56386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Comic Sans MS"/>
              </a:rPr>
              <a:t>insiem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78600" y="56214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insiem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81400" y="3327480"/>
            <a:ext cx="457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3589200"/>
            <a:ext cx="2689200" cy="209520"/>
          </a:xfrm>
          <a:custGeom>
            <a:avLst/>
            <a:gdLst/>
            <a:ahLst/>
            <a:rect l="l" t="t" r="r" b="b"/>
            <a:pathLst>
              <a:path w="1688" h="126">
                <a:moveTo>
                  <a:pt x="0" y="126"/>
                </a:moveTo>
                <a:cubicBezTo>
                  <a:pt x="81" y="109"/>
                  <a:pt x="348" y="46"/>
                  <a:pt x="488" y="27"/>
                </a:cubicBezTo>
                <a:cubicBezTo>
                  <a:pt x="628" y="8"/>
                  <a:pt x="735" y="14"/>
                  <a:pt x="840" y="11"/>
                </a:cubicBezTo>
                <a:cubicBezTo>
                  <a:pt x="945" y="8"/>
                  <a:pt x="979" y="0"/>
                  <a:pt x="1120" y="11"/>
                </a:cubicBezTo>
                <a:cubicBezTo>
                  <a:pt x="1261" y="22"/>
                  <a:pt x="1570" y="62"/>
                  <a:pt x="1688" y="75"/>
                </a:cubicBezTo>
              </a:path>
            </a:pathLst>
          </a:custGeom>
          <a:noFill/>
          <a:ln w="9360">
            <a:solidFill>
              <a:srgbClr val="80808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3425760"/>
            <a:ext cx="2700360" cy="668520"/>
          </a:xfrm>
          <a:custGeom>
            <a:avLst/>
            <a:gdLst/>
            <a:ahLst/>
            <a:rect l="l" t="t" r="r" b="b"/>
            <a:pathLst>
              <a:path w="1701" h="421">
                <a:moveTo>
                  <a:pt x="0" y="421"/>
                </a:moveTo>
                <a:cubicBezTo>
                  <a:pt x="75" y="406"/>
                  <a:pt x="297" y="360"/>
                  <a:pt x="448" y="329"/>
                </a:cubicBezTo>
                <a:cubicBezTo>
                  <a:pt x="599" y="298"/>
                  <a:pt x="746" y="274"/>
                  <a:pt x="905" y="237"/>
                </a:cubicBezTo>
                <a:cubicBezTo>
                  <a:pt x="1064" y="200"/>
                  <a:pt x="1266" y="148"/>
                  <a:pt x="1399" y="109"/>
                </a:cubicBezTo>
                <a:cubicBezTo>
                  <a:pt x="1532" y="70"/>
                  <a:pt x="1638" y="23"/>
                  <a:pt x="1701" y="0"/>
                </a:cubicBezTo>
              </a:path>
            </a:pathLst>
          </a:custGeom>
          <a:noFill/>
          <a:ln w="9360">
            <a:solidFill>
              <a:srgbClr val="80808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4102200"/>
            <a:ext cx="2717640" cy="325440"/>
          </a:xfrm>
          <a:custGeom>
            <a:avLst/>
            <a:gdLst/>
            <a:ahLst/>
            <a:rect l="l" t="t" r="r" b="b"/>
            <a:pathLst>
              <a:path w="1675" h="205">
                <a:moveTo>
                  <a:pt x="0" y="205"/>
                </a:moveTo>
                <a:cubicBezTo>
                  <a:pt x="80" y="190"/>
                  <a:pt x="337" y="135"/>
                  <a:pt x="483" y="112"/>
                </a:cubicBezTo>
                <a:cubicBezTo>
                  <a:pt x="629" y="89"/>
                  <a:pt x="750" y="77"/>
                  <a:pt x="875" y="64"/>
                </a:cubicBezTo>
                <a:cubicBezTo>
                  <a:pt x="1000" y="51"/>
                  <a:pt x="1102" y="43"/>
                  <a:pt x="1235" y="32"/>
                </a:cubicBezTo>
                <a:cubicBezTo>
                  <a:pt x="1368" y="21"/>
                  <a:pt x="1583" y="7"/>
                  <a:pt x="1675" y="0"/>
                </a:cubicBezTo>
              </a:path>
            </a:pathLst>
          </a:custGeom>
          <a:noFill/>
          <a:ln w="9360">
            <a:solidFill>
              <a:srgbClr val="80808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4394160"/>
            <a:ext cx="2705040" cy="304920"/>
          </a:xfrm>
          <a:custGeom>
            <a:avLst/>
            <a:gdLst/>
            <a:ahLst/>
            <a:rect l="l" t="t" r="r" b="b"/>
            <a:pathLst>
              <a:path w="1680" h="192">
                <a:moveTo>
                  <a:pt x="0" y="192"/>
                </a:moveTo>
                <a:cubicBezTo>
                  <a:pt x="73" y="175"/>
                  <a:pt x="298" y="115"/>
                  <a:pt x="440" y="88"/>
                </a:cubicBezTo>
                <a:cubicBezTo>
                  <a:pt x="582" y="61"/>
                  <a:pt x="711" y="45"/>
                  <a:pt x="856" y="32"/>
                </a:cubicBezTo>
                <a:cubicBezTo>
                  <a:pt x="1001" y="19"/>
                  <a:pt x="1175" y="13"/>
                  <a:pt x="1312" y="8"/>
                </a:cubicBezTo>
                <a:cubicBezTo>
                  <a:pt x="1449" y="3"/>
                  <a:pt x="1603" y="2"/>
                  <a:pt x="1680" y="0"/>
                </a:cubicBezTo>
              </a:path>
            </a:pathLst>
          </a:custGeom>
          <a:noFill/>
          <a:ln w="9360">
            <a:solidFill>
              <a:srgbClr val="80808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4694400"/>
            <a:ext cx="2730600" cy="314280"/>
          </a:xfrm>
          <a:custGeom>
            <a:avLst/>
            <a:gdLst/>
            <a:ahLst/>
            <a:rect l="l" t="t" r="r" b="b"/>
            <a:pathLst>
              <a:path w="1720" h="198">
                <a:moveTo>
                  <a:pt x="0" y="198"/>
                </a:moveTo>
                <a:cubicBezTo>
                  <a:pt x="84" y="178"/>
                  <a:pt x="348" y="105"/>
                  <a:pt x="504" y="75"/>
                </a:cubicBezTo>
                <a:cubicBezTo>
                  <a:pt x="660" y="45"/>
                  <a:pt x="803" y="31"/>
                  <a:pt x="936" y="19"/>
                </a:cubicBezTo>
                <a:cubicBezTo>
                  <a:pt x="1069" y="7"/>
                  <a:pt x="1173" y="6"/>
                  <a:pt x="1304" y="3"/>
                </a:cubicBezTo>
                <a:cubicBezTo>
                  <a:pt x="1435" y="0"/>
                  <a:pt x="1633" y="3"/>
                  <a:pt x="1720" y="3"/>
                </a:cubicBezTo>
              </a:path>
            </a:pathLst>
          </a:custGeom>
          <a:noFill/>
          <a:ln w="9360">
            <a:solidFill>
              <a:srgbClr val="80808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3124080"/>
            <a:ext cx="2743200" cy="284400"/>
          </a:xfrm>
          <a:custGeom>
            <a:avLst/>
            <a:gdLst/>
            <a:ahLst/>
            <a:rect l="l" t="t" r="r" b="b"/>
            <a:pathLst>
              <a:path w="1728" h="179">
                <a:moveTo>
                  <a:pt x="0" y="179"/>
                </a:moveTo>
                <a:cubicBezTo>
                  <a:pt x="64" y="158"/>
                  <a:pt x="237" y="87"/>
                  <a:pt x="384" y="57"/>
                </a:cubicBezTo>
                <a:cubicBezTo>
                  <a:pt x="531" y="28"/>
                  <a:pt x="716" y="0"/>
                  <a:pt x="880" y="0"/>
                </a:cubicBezTo>
                <a:cubicBezTo>
                  <a:pt x="1044" y="0"/>
                  <a:pt x="1227" y="33"/>
                  <a:pt x="1368" y="57"/>
                </a:cubicBezTo>
                <a:cubicBezTo>
                  <a:pt x="1509" y="81"/>
                  <a:pt x="1653" y="126"/>
                  <a:pt x="1728" y="144"/>
                </a:cubicBezTo>
              </a:path>
            </a:pathLst>
          </a:custGeom>
          <a:noFill/>
          <a:ln w="9360">
            <a:solidFill>
              <a:srgbClr val="80808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48240" y="32655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5800" y="3581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57960" y="39528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67320" y="42670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46720" y="457200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23040" y="4943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27360" y="6400800"/>
            <a:ext cx="240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INTRODUZIONE ALLE FUNZIONI   6/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181480" y="3200400"/>
            <a:ext cx="3048120" cy="2230560"/>
            <a:chOff x="5181480" y="3200400"/>
            <a:chExt cx="3048120" cy="2230560"/>
          </a:xfrm>
        </p:grpSpPr>
        <p:sp>
          <p:nvSpPr>
            <p:cNvPr id="151" name=""/>
            <p:cNvSpPr/>
            <p:nvPr/>
          </p:nvSpPr>
          <p:spPr>
            <a:xfrm>
              <a:off x="5181480" y="3200400"/>
              <a:ext cx="808200" cy="1752480"/>
            </a:xfrm>
            <a:prstGeom prst="ellipse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94320" y="3733920"/>
              <a:ext cx="1835280" cy="16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0000"/>
                  </a:solidFill>
                  <a:latin typeface="Comic Sans MS"/>
                </a:rPr>
                <a:t>Insieme delle immagini degli elementi di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0000"/>
                  </a:solidFill>
                  <a:latin typeface="Comic Sans MS"/>
                </a:rPr>
                <a:t>Si chiamerà  codominio di f         ( oppure  f(A) ,            oppure </a:t>
              </a:r>
              <a:r>
                <a:rPr b="0" i="1" lang="it-IT" sz="1400" spc="-1" strike="noStrike">
                  <a:solidFill>
                    <a:srgbClr val="cc0000"/>
                  </a:solidFill>
                  <a:latin typeface="Comic Sans MS"/>
                </a:rPr>
                <a:t>cod</a:t>
              </a:r>
              <a:r>
                <a:rPr b="0" lang="it-IT" sz="1400" spc="-1" strike="noStrike">
                  <a:solidFill>
                    <a:srgbClr val="cc0000"/>
                  </a:solidFill>
                  <a:latin typeface="Comic Sans MS"/>
                </a:rPr>
                <a:t>  f 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019920" y="3886200"/>
              <a:ext cx="38088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57360" y="573120"/>
            <a:ext cx="770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Definizione 4  (codominio di una funzion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ata una funzione  f   definita in A  a valori in B  si dic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odominio di f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quel sottoinsieme di B formato dalle immagini, ottenute tramite la funzione f , degli elementi di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7360" y="6400800"/>
            <a:ext cx="240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INTRODUZIONE ALLE FUNZIONI   7/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09480" y="2243160"/>
            <a:ext cx="7859880" cy="1905120"/>
            <a:chOff x="609480" y="2243160"/>
            <a:chExt cx="7859880" cy="1905120"/>
          </a:xfrm>
        </p:grpSpPr>
        <p:sp>
          <p:nvSpPr>
            <p:cNvPr id="157" name=""/>
            <p:cNvSpPr/>
            <p:nvPr/>
          </p:nvSpPr>
          <p:spPr>
            <a:xfrm>
              <a:off x="609480" y="2243160"/>
              <a:ext cx="7848720" cy="19051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64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85800" y="2319480"/>
              <a:ext cx="7315200" cy="955440"/>
              <a:chOff x="685800" y="2319480"/>
              <a:chExt cx="7315200" cy="955440"/>
            </a:xfrm>
          </p:grpSpPr>
          <p:sp>
            <p:nvSpPr>
              <p:cNvPr id="159" name=""/>
              <p:cNvSpPr/>
              <p:nvPr/>
            </p:nvSpPr>
            <p:spPr>
              <a:xfrm>
                <a:off x="685800" y="2319480"/>
                <a:ext cx="731520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n simboli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1447560" y="2776680"/>
                    <a:ext cx="6399360" cy="498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od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per cui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61" name=""/>
            <p:cNvSpPr/>
            <p:nvPr/>
          </p:nvSpPr>
          <p:spPr>
            <a:xfrm>
              <a:off x="762120" y="3405240"/>
              <a:ext cx="65530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i legge: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“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Comic Sans MS"/>
                </a:rPr>
                <a:t>codominio di f è uguale all’insieme delle y appartenenti a B tali che esiste x appartenente ad A per cui f(x) è uguale a y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7815240" y="3379680"/>
              <a:ext cx="654120" cy="635040"/>
              <a:chOff x="7815240" y="3379680"/>
              <a:chExt cx="654120" cy="63504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7826400" y="3379680"/>
                <a:ext cx="642960" cy="635040"/>
                <a:chOff x="7826400" y="3379680"/>
                <a:chExt cx="642960" cy="635040"/>
              </a:xfrm>
            </p:grpSpPr>
            <p:grpSp>
              <p:nvGrpSpPr>
                <p:cNvPr id="164" name=""/>
                <p:cNvGrpSpPr/>
                <p:nvPr/>
              </p:nvGrpSpPr>
              <p:grpSpPr>
                <a:xfrm>
                  <a:off x="7826400" y="3473280"/>
                  <a:ext cx="471600" cy="541440"/>
                  <a:chOff x="7826400" y="3473280"/>
                  <a:chExt cx="471600" cy="54144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7826400" y="3529080"/>
                    <a:ext cx="457200" cy="485640"/>
                  </a:xfrm>
                  <a:prstGeom prst="ellipse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7866000" y="3473280"/>
                    <a:ext cx="432000" cy="398880"/>
                    <a:chOff x="7866000" y="3473280"/>
                    <a:chExt cx="432000" cy="39888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7866000" y="3514680"/>
                      <a:ext cx="43200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 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7923240" y="3473280"/>
                      <a:ext cx="2746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9" name=""/>
                <p:cNvSpPr/>
                <p:nvPr/>
              </p:nvSpPr>
              <p:spPr>
                <a:xfrm>
                  <a:off x="8123400" y="3379680"/>
                  <a:ext cx="345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??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815240" y="3708360"/>
                <a:ext cx="51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~~~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801360" y="4510080"/>
            <a:ext cx="7129800" cy="1316160"/>
            <a:chOff x="801360" y="4510080"/>
            <a:chExt cx="7129800" cy="1316160"/>
          </a:xfrm>
        </p:grpSpPr>
        <p:grpSp>
          <p:nvGrpSpPr>
            <p:cNvPr id="172" name=""/>
            <p:cNvGrpSpPr/>
            <p:nvPr/>
          </p:nvGrpSpPr>
          <p:grpSpPr>
            <a:xfrm>
              <a:off x="801360" y="4510080"/>
              <a:ext cx="6704280" cy="1316160"/>
              <a:chOff x="801360" y="4510080"/>
              <a:chExt cx="6704280" cy="1316160"/>
            </a:xfrm>
          </p:grpSpPr>
          <p:sp>
            <p:nvSpPr>
              <p:cNvPr id="173" name=""/>
              <p:cNvSpPr/>
              <p:nvPr/>
            </p:nvSpPr>
            <p:spPr>
              <a:xfrm>
                <a:off x="801360" y="4510080"/>
                <a:ext cx="991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ESEMPIO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98640" y="489600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y = x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47840" y="4940280"/>
                <a:ext cx="525780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l caso di questa funzione il dominio è tutto l’insieme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GoudyHandtooled BT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 mentre il codominio è il sottoinsieme di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GoudyHandtooled BT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formato dai numeri positivi e dallo zero    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7543800" y="5334120"/>
              <a:ext cx="387360" cy="368280"/>
              <a:chOff x="7543800" y="5334120"/>
              <a:chExt cx="387360" cy="368280"/>
            </a:xfrm>
          </p:grpSpPr>
          <p:sp>
            <p:nvSpPr>
              <p:cNvPr id="177" name=""/>
              <p:cNvSpPr/>
              <p:nvPr/>
            </p:nvSpPr>
            <p:spPr>
              <a:xfrm>
                <a:off x="7543800" y="5371920"/>
                <a:ext cx="324000" cy="313920"/>
              </a:xfrm>
              <a:prstGeom prst="octagon">
                <a:avLst>
                  <a:gd name="adj" fmla="val 23231"/>
                </a:avLst>
              </a:prstGeom>
              <a:solidFill>
                <a:srgbClr val="cc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550280" y="5334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15:40:07Z</dcterms:created>
  <dc:creator>Carmelo Ciaramella</dc:creator>
  <dc:description/>
  <dc:language>en-US</dc:language>
  <cp:lastModifiedBy>Carmelo Ciaramella</cp:lastModifiedBy>
  <dcterms:modified xsi:type="dcterms:W3CDTF">2005-09-28T12:40:28Z</dcterms:modified>
  <cp:revision>52</cp:revision>
  <dc:subject/>
  <dc:title>Diapositiva 1</dc:title>
</cp:coreProperties>
</file>