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018-911C-4973-87AE-36793DB8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44A-969A-420E-BF57-A5F77D2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338-F4F4-4C90-9C92-2D16E25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7CB-2E7C-4972-8A41-DED501E5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122-224A-4C70-A6E3-3333B3EF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9BE-0E92-4A85-8934-585D78D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C67-9BF7-43B7-B8FD-B01A9B8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054-27B6-458D-A9D3-92A165E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A3F-5E61-4DD5-AE30-2DE29E8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BED-C404-4333-A56F-921FC4F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4DD-B5E5-4AEC-8721-930E573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622-9D89-4C1B-AE52-8CAE05E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A43-6DD2-4FF6-9EC7-6D11FD5DE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9600" y="236232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FICO DI UNA F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0800" y="113040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E QU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328464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FINIZIONE DI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MMET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GRAFICI DI FUNZIONI ELEMENTARI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4952880"/>
            <a:ext cx="205740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rerequisiti :                  -  piano cartesiano  -  potenze              -  logarit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9560" y="800280"/>
            <a:ext cx="7844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O INTRODUTTIV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Data  la funzione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definita in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valori in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  calcolando le immagini di alcuni elementi del dominio otteniamo la tabel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3720" y="4124160"/>
            <a:ext cx="387360" cy="368280"/>
            <a:chOff x="2133720" y="4124160"/>
            <a:chExt cx="387360" cy="368280"/>
          </a:xfrm>
        </p:grpSpPr>
        <p:sp>
          <p:nvSpPr>
            <p:cNvPr id="48" name=""/>
            <p:cNvSpPr/>
            <p:nvPr/>
          </p:nvSpPr>
          <p:spPr>
            <a:xfrm>
              <a:off x="2133720" y="4162320"/>
              <a:ext cx="324000" cy="31428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40200" y="4124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80880" y="1981080"/>
            <a:ext cx="1695960" cy="2616120"/>
            <a:chOff x="380880" y="1981080"/>
            <a:chExt cx="1695960" cy="2616120"/>
          </a:xfrm>
        </p:grpSpPr>
        <p:sp>
          <p:nvSpPr>
            <p:cNvPr id="51" name=""/>
            <p:cNvSpPr/>
            <p:nvPr/>
          </p:nvSpPr>
          <p:spPr>
            <a:xfrm>
              <a:off x="1214280" y="1981080"/>
              <a:ext cx="0" cy="26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2028600"/>
              <a:ext cx="16959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      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     6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2422440"/>
              <a:ext cx="11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317600" y="39560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1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1800" y="1905120"/>
            <a:ext cx="5715000" cy="3581280"/>
            <a:chOff x="2971800" y="1905120"/>
            <a:chExt cx="5715000" cy="3581280"/>
          </a:xfrm>
        </p:grpSpPr>
        <p:sp>
          <p:nvSpPr>
            <p:cNvPr id="57" name=""/>
            <p:cNvSpPr/>
            <p:nvPr/>
          </p:nvSpPr>
          <p:spPr>
            <a:xfrm>
              <a:off x="2971800" y="2590920"/>
              <a:ext cx="1981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nsideriamo le coppie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y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come punti e rappresentiamoli su un piano cartesi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257800" y="1905120"/>
              <a:ext cx="3429000" cy="3581280"/>
              <a:chOff x="5257800" y="1905120"/>
              <a:chExt cx="3429000" cy="358128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6324480" y="1905120"/>
                <a:ext cx="0" cy="3581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257800" y="5029200"/>
                <a:ext cx="3429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257800" y="1905120"/>
              <a:ext cx="3352680" cy="3581280"/>
              <a:chOff x="5257800" y="1905120"/>
              <a:chExt cx="3352680" cy="3581280"/>
            </a:xfrm>
          </p:grpSpPr>
          <p:sp>
            <p:nvSpPr>
              <p:cNvPr id="62" name=""/>
              <p:cNvSpPr/>
              <p:nvPr/>
            </p:nvSpPr>
            <p:spPr>
              <a:xfrm>
                <a:off x="5257800" y="48006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57800" y="52578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57800" y="45720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57800" y="34290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36576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257800" y="38862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57800" y="41148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57800" y="43434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57800" y="54864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57800" y="32004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57800" y="29718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57800" y="27432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57800" y="25146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257800" y="22860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57800" y="20574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958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672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386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10080" y="1905120"/>
                <a:ext cx="0" cy="3581280"/>
              </a:xfrm>
              <a:prstGeom prst="line">
                <a:avLst/>
              </a:prstGeom>
              <a:ln w="324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530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816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102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388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674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960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9246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32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818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24480" y="1905120"/>
                <a:ext cx="0" cy="358128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57800" y="5029200"/>
                <a:ext cx="33526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6642000" y="410832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10160" y="456876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64480" y="319392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5594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21480" y="3187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2960" y="4114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92880" y="18162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7150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derando tutti gli elementi del domino e le loro immagini si ha un insieme infinito di punti che costituiranno il  GRAFICO  della 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790640"/>
            <a:ext cx="1743120" cy="3314880"/>
          </a:xfrm>
          <a:custGeom>
            <a:avLst/>
            <a:gdLst/>
            <a:ahLst/>
            <a:rect l="l" t="t" r="r" b="b"/>
            <a:pathLst>
              <a:path w="1098" h="2088">
                <a:moveTo>
                  <a:pt x="0" y="24"/>
                </a:moveTo>
                <a:cubicBezTo>
                  <a:pt x="8" y="79"/>
                  <a:pt x="16" y="162"/>
                  <a:pt x="48" y="354"/>
                </a:cubicBezTo>
                <a:cubicBezTo>
                  <a:pt x="80" y="546"/>
                  <a:pt x="144" y="943"/>
                  <a:pt x="192" y="1176"/>
                </a:cubicBezTo>
                <a:cubicBezTo>
                  <a:pt x="240" y="1409"/>
                  <a:pt x="288" y="1608"/>
                  <a:pt x="336" y="1752"/>
                </a:cubicBezTo>
                <a:cubicBezTo>
                  <a:pt x="384" y="1896"/>
                  <a:pt x="432" y="1992"/>
                  <a:pt x="480" y="2040"/>
                </a:cubicBezTo>
                <a:cubicBezTo>
                  <a:pt x="528" y="2088"/>
                  <a:pt x="576" y="2088"/>
                  <a:pt x="624" y="2040"/>
                </a:cubicBezTo>
                <a:cubicBezTo>
                  <a:pt x="672" y="1992"/>
                  <a:pt x="720" y="1896"/>
                  <a:pt x="768" y="1752"/>
                </a:cubicBezTo>
                <a:cubicBezTo>
                  <a:pt x="816" y="1608"/>
                  <a:pt x="864" y="1416"/>
                  <a:pt x="912" y="1176"/>
                </a:cubicBezTo>
                <a:cubicBezTo>
                  <a:pt x="960" y="936"/>
                  <a:pt x="1025" y="508"/>
                  <a:pt x="1056" y="312"/>
                </a:cubicBezTo>
                <a:cubicBezTo>
                  <a:pt x="1087" y="116"/>
                  <a:pt x="1089" y="65"/>
                  <a:pt x="1098" y="0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4880" y="3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FINIZIONE DI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1  ( grafico di una funzio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a una funzione definita nell’insieme A a valori in B , si dice grafico della funzione l’insieme dei punti del piano cartesiano del tipo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 x ,  f(x)  )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ottenuti per tutti gli elementi  x  appartenenti al dominio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752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 1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Nel grafico di una funzione non può mai accadere che due punti abbiano la stessa ascissa poiché per definizione di funzione 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(vedi def.1 lezione funzioni)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l’immagine di ogni elemento x del dominio deve essere u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52578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NON  può essere il grafico di una fu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943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ficamente quindi ogni retta parellela all’asse y può incontrare il grafico di una funzione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l massim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n un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52680" y="3200400"/>
            <a:ext cx="2286000" cy="2577600"/>
            <a:chOff x="3352680" y="3200400"/>
            <a:chExt cx="2286000" cy="2577600"/>
          </a:xfrm>
        </p:grpSpPr>
        <p:sp>
          <p:nvSpPr>
            <p:cNvPr id="107" name=""/>
            <p:cNvSpPr/>
            <p:nvPr/>
          </p:nvSpPr>
          <p:spPr>
            <a:xfrm>
              <a:off x="3657600" y="525780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80"/>
                  </a:solidFill>
                  <a:latin typeface="Arial"/>
                </a:rPr>
                <a:t>NON  può essere il grafico di una fun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52680" y="3200400"/>
              <a:ext cx="2286000" cy="1945800"/>
              <a:chOff x="3352680" y="3200400"/>
              <a:chExt cx="2286000" cy="19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3886200" y="320040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29000" y="487692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52680" y="3429000"/>
                <a:ext cx="2197080" cy="1154160"/>
              </a:xfrm>
              <a:custGeom>
                <a:avLst/>
                <a:gdLst/>
                <a:ahLst/>
                <a:rect l="l" t="t" r="r" b="b"/>
                <a:pathLst>
                  <a:path w="1384" h="727">
                    <a:moveTo>
                      <a:pt x="0" y="144"/>
                    </a:moveTo>
                    <a:cubicBezTo>
                      <a:pt x="51" y="149"/>
                      <a:pt x="168" y="153"/>
                      <a:pt x="304" y="176"/>
                    </a:cubicBezTo>
                    <a:cubicBezTo>
                      <a:pt x="440" y="199"/>
                      <a:pt x="684" y="233"/>
                      <a:pt x="816" y="280"/>
                    </a:cubicBezTo>
                    <a:cubicBezTo>
                      <a:pt x="948" y="327"/>
                      <a:pt x="1057" y="387"/>
                      <a:pt x="1096" y="456"/>
                    </a:cubicBezTo>
                    <a:cubicBezTo>
                      <a:pt x="1135" y="525"/>
                      <a:pt x="1112" y="665"/>
                      <a:pt x="1048" y="696"/>
                    </a:cubicBezTo>
                    <a:cubicBezTo>
                      <a:pt x="984" y="727"/>
                      <a:pt x="781" y="700"/>
                      <a:pt x="712" y="640"/>
                    </a:cubicBezTo>
                    <a:cubicBezTo>
                      <a:pt x="643" y="580"/>
                      <a:pt x="596" y="428"/>
                      <a:pt x="632" y="336"/>
                    </a:cubicBezTo>
                    <a:cubicBezTo>
                      <a:pt x="668" y="244"/>
                      <a:pt x="803" y="144"/>
                      <a:pt x="928" y="88"/>
                    </a:cubicBezTo>
                    <a:cubicBezTo>
                      <a:pt x="1053" y="32"/>
                      <a:pt x="1289" y="18"/>
                      <a:pt x="1384" y="0"/>
                    </a:cubicBez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91080" y="4686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00600" y="3581280"/>
                <a:ext cx="0" cy="129564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6840" y="4552920"/>
                <a:ext cx="90468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95560" y="3581280"/>
                <a:ext cx="90504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95560" y="3924360"/>
                <a:ext cx="90504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52840" y="4219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71920" y="371484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3480" y="3238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84600" y="32637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91080" y="3606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84600" y="42292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324480" y="3200400"/>
            <a:ext cx="2210040" cy="1828800"/>
            <a:chOff x="6324480" y="3200400"/>
            <a:chExt cx="2210040" cy="1828800"/>
          </a:xfrm>
        </p:grpSpPr>
        <p:sp>
          <p:nvSpPr>
            <p:cNvPr id="124" name=""/>
            <p:cNvSpPr/>
            <p:nvPr/>
          </p:nvSpPr>
          <p:spPr>
            <a:xfrm flipV="1">
              <a:off x="6629400" y="32004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4480" y="48769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3486240"/>
              <a:ext cx="2210040" cy="1479600"/>
            </a:xfrm>
            <a:custGeom>
              <a:avLst/>
              <a:gdLst/>
              <a:ahLst/>
              <a:rect l="l" t="t" r="r" b="b"/>
              <a:pathLst>
                <a:path w="1392" h="920">
                  <a:moveTo>
                    <a:pt x="0" y="920"/>
                  </a:moveTo>
                  <a:cubicBezTo>
                    <a:pt x="40" y="887"/>
                    <a:pt x="99" y="785"/>
                    <a:pt x="240" y="720"/>
                  </a:cubicBezTo>
                  <a:cubicBezTo>
                    <a:pt x="381" y="655"/>
                    <a:pt x="736" y="579"/>
                    <a:pt x="848" y="528"/>
                  </a:cubicBezTo>
                  <a:cubicBezTo>
                    <a:pt x="960" y="477"/>
                    <a:pt x="970" y="459"/>
                    <a:pt x="912" y="412"/>
                  </a:cubicBezTo>
                  <a:cubicBezTo>
                    <a:pt x="854" y="365"/>
                    <a:pt x="420" y="317"/>
                    <a:pt x="500" y="248"/>
                  </a:cubicBezTo>
                  <a:cubicBezTo>
                    <a:pt x="580" y="179"/>
                    <a:pt x="1206" y="52"/>
                    <a:pt x="1392" y="0"/>
                  </a:cubicBezTo>
                </a:path>
              </a:pathLst>
            </a:custGeom>
            <a:noFill/>
            <a:ln w="1908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251840" y="3429000"/>
            <a:ext cx="396360" cy="1673640"/>
            <a:chOff x="7251840" y="3429000"/>
            <a:chExt cx="396360" cy="1673640"/>
          </a:xfrm>
        </p:grpSpPr>
        <p:sp>
          <p:nvSpPr>
            <p:cNvPr id="128" name=""/>
            <p:cNvSpPr/>
            <p:nvPr/>
          </p:nvSpPr>
          <p:spPr>
            <a:xfrm>
              <a:off x="7467480" y="3772080"/>
              <a:ext cx="0" cy="110484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1840" y="4083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184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5184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8680" y="48261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2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3200400"/>
            <a:ext cx="2336760" cy="2577600"/>
            <a:chOff x="533520" y="3200400"/>
            <a:chExt cx="2336760" cy="2577600"/>
          </a:xfrm>
        </p:grpSpPr>
        <p:sp>
          <p:nvSpPr>
            <p:cNvPr id="135" name=""/>
            <p:cNvSpPr/>
            <p:nvPr/>
          </p:nvSpPr>
          <p:spPr>
            <a:xfrm>
              <a:off x="990720" y="52578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</a:rPr>
                <a:t>Può essere il grafico di una fun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33520" y="3200400"/>
              <a:ext cx="2336760" cy="1955160"/>
              <a:chOff x="533520" y="3200400"/>
              <a:chExt cx="2336760" cy="1955160"/>
            </a:xfrm>
          </p:grpSpPr>
          <p:sp>
            <p:nvSpPr>
              <p:cNvPr id="137" name=""/>
              <p:cNvSpPr/>
              <p:nvPr/>
            </p:nvSpPr>
            <p:spPr>
              <a:xfrm>
                <a:off x="1143000" y="4038480"/>
                <a:ext cx="76212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3520" y="3200400"/>
                <a:ext cx="2336760" cy="1955160"/>
                <a:chOff x="533520" y="3200400"/>
                <a:chExt cx="2336760" cy="19551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1143000" y="320040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33520" y="487692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38080" y="3695760"/>
                  <a:ext cx="2032200" cy="1409760"/>
                </a:xfrm>
                <a:custGeom>
                  <a:avLst/>
                  <a:gdLst/>
                  <a:ahLst/>
                  <a:rect l="l" t="t" r="r" b="b"/>
                  <a:pathLst>
                    <a:path w="1280" h="1068">
                      <a:moveTo>
                        <a:pt x="0" y="1068"/>
                      </a:moveTo>
                      <a:cubicBezTo>
                        <a:pt x="60" y="947"/>
                        <a:pt x="264" y="493"/>
                        <a:pt x="360" y="344"/>
                      </a:cubicBezTo>
                      <a:cubicBezTo>
                        <a:pt x="456" y="195"/>
                        <a:pt x="489" y="152"/>
                        <a:pt x="576" y="176"/>
                      </a:cubicBezTo>
                      <a:cubicBezTo>
                        <a:pt x="663" y="200"/>
                        <a:pt x="792" y="448"/>
                        <a:pt x="880" y="488"/>
                      </a:cubicBezTo>
                      <a:cubicBezTo>
                        <a:pt x="968" y="528"/>
                        <a:pt x="1037" y="497"/>
                        <a:pt x="1104" y="416"/>
                      </a:cubicBezTo>
                      <a:cubicBezTo>
                        <a:pt x="1171" y="335"/>
                        <a:pt x="1243" y="87"/>
                        <a:pt x="1280" y="0"/>
                      </a:cubicBezTo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05120" y="4038480"/>
                  <a:ext cx="0" cy="838440"/>
                </a:xfrm>
                <a:prstGeom prst="line">
                  <a:avLst/>
                </a:prstGeom>
                <a:ln cap="rnd" w="3240">
                  <a:solidFill>
                    <a:srgbClr val="80808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98480" y="469584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2880" y="3759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682640" y="37242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209520"/>
            <a:ext cx="73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MMETRIE NEL GRAFICO DI UNA 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3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6680" y="6858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900000"/>
            <a:ext cx="1752480" cy="2221920"/>
            <a:chOff x="533520" y="900000"/>
            <a:chExt cx="1752480" cy="2221920"/>
          </a:xfrm>
        </p:grpSpPr>
        <p:sp>
          <p:nvSpPr>
            <p:cNvPr id="150" name=""/>
            <p:cNvSpPr/>
            <p:nvPr/>
          </p:nvSpPr>
          <p:spPr>
            <a:xfrm flipV="1">
              <a:off x="1371600" y="1377000"/>
              <a:ext cx="0" cy="17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2880" y="2537640"/>
              <a:ext cx="17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3040" y="1618560"/>
              <a:ext cx="851040" cy="1298880"/>
            </a:xfrm>
            <a:custGeom>
              <a:avLst/>
              <a:gdLst/>
              <a:ahLst/>
              <a:rect l="l" t="t" r="r" b="b"/>
              <a:pathLst>
                <a:path w="659" h="838">
                  <a:moveTo>
                    <a:pt x="0" y="430"/>
                  </a:moveTo>
                  <a:cubicBezTo>
                    <a:pt x="18" y="441"/>
                    <a:pt x="60" y="428"/>
                    <a:pt x="110" y="494"/>
                  </a:cubicBezTo>
                  <a:cubicBezTo>
                    <a:pt x="160" y="560"/>
                    <a:pt x="231" y="820"/>
                    <a:pt x="301" y="829"/>
                  </a:cubicBezTo>
                  <a:cubicBezTo>
                    <a:pt x="371" y="838"/>
                    <a:pt x="471" y="687"/>
                    <a:pt x="531" y="549"/>
                  </a:cubicBezTo>
                  <a:cubicBezTo>
                    <a:pt x="591" y="411"/>
                    <a:pt x="632" y="114"/>
                    <a:pt x="659" y="0"/>
                  </a:cubicBezTo>
                </a:path>
              </a:pathLst>
            </a:custGeom>
            <a:noFill/>
            <a:ln w="1908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6120" y="2143080"/>
              <a:ext cx="299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4440" y="900000"/>
              <a:ext cx="3002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33520" y="1618560"/>
              <a:ext cx="844560" cy="1298880"/>
            </a:xfrm>
            <a:custGeom>
              <a:avLst/>
              <a:gdLst/>
              <a:ahLst/>
              <a:rect l="l" t="t" r="r" b="b"/>
              <a:pathLst>
                <a:path w="659" h="838">
                  <a:moveTo>
                    <a:pt x="0" y="430"/>
                  </a:moveTo>
                  <a:cubicBezTo>
                    <a:pt x="18" y="441"/>
                    <a:pt x="60" y="428"/>
                    <a:pt x="110" y="494"/>
                  </a:cubicBezTo>
                  <a:cubicBezTo>
                    <a:pt x="160" y="560"/>
                    <a:pt x="231" y="820"/>
                    <a:pt x="301" y="829"/>
                  </a:cubicBezTo>
                  <a:cubicBezTo>
                    <a:pt x="371" y="838"/>
                    <a:pt x="471" y="687"/>
                    <a:pt x="531" y="549"/>
                  </a:cubicBezTo>
                  <a:cubicBezTo>
                    <a:pt x="591" y="411"/>
                    <a:pt x="632" y="114"/>
                    <a:pt x="659" y="0"/>
                  </a:cubicBezTo>
                </a:path>
              </a:pathLst>
            </a:custGeom>
            <a:noFill/>
            <a:ln w="1908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H="1" flipV="1">
            <a:off x="3884760" y="1363680"/>
            <a:ext cx="1440" cy="17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4160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0" y="1676520"/>
            <a:ext cx="870120" cy="1447560"/>
          </a:xfrm>
          <a:custGeom>
            <a:avLst/>
            <a:gdLst/>
            <a:ahLst/>
            <a:rect l="l" t="t" r="r" b="b"/>
            <a:pathLst>
              <a:path w="548" h="641">
                <a:moveTo>
                  <a:pt x="0" y="641"/>
                </a:moveTo>
                <a:cubicBezTo>
                  <a:pt x="21" y="568"/>
                  <a:pt x="74" y="302"/>
                  <a:pt x="124" y="201"/>
                </a:cubicBezTo>
                <a:cubicBezTo>
                  <a:pt x="174" y="100"/>
                  <a:pt x="229" y="66"/>
                  <a:pt x="300" y="33"/>
                </a:cubicBezTo>
                <a:cubicBezTo>
                  <a:pt x="371" y="0"/>
                  <a:pt x="496" y="8"/>
                  <a:pt x="548" y="1"/>
                </a:cubicBezTo>
              </a:path>
            </a:pathLst>
          </a:cu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1000" y="214956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9680" y="914400"/>
            <a:ext cx="299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971080" y="1676520"/>
            <a:ext cx="857160" cy="1447560"/>
          </a:xfrm>
          <a:custGeom>
            <a:avLst/>
            <a:gdLst/>
            <a:ahLst/>
            <a:rect l="l" t="t" r="r" b="b"/>
            <a:pathLst>
              <a:path w="548" h="641">
                <a:moveTo>
                  <a:pt x="0" y="641"/>
                </a:moveTo>
                <a:cubicBezTo>
                  <a:pt x="21" y="568"/>
                  <a:pt x="74" y="302"/>
                  <a:pt x="124" y="201"/>
                </a:cubicBezTo>
                <a:cubicBezTo>
                  <a:pt x="174" y="100"/>
                  <a:pt x="229" y="66"/>
                  <a:pt x="300" y="33"/>
                </a:cubicBezTo>
                <a:cubicBezTo>
                  <a:pt x="371" y="0"/>
                  <a:pt x="496" y="8"/>
                  <a:pt x="548" y="1"/>
                </a:cubicBezTo>
              </a:path>
            </a:pathLst>
          </a:cu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338880" y="136476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67440" y="1571760"/>
            <a:ext cx="271440" cy="1149120"/>
          </a:xfrm>
          <a:custGeom>
            <a:avLst/>
            <a:gdLst/>
            <a:ahLst/>
            <a:rect l="l" t="t" r="r" b="b"/>
            <a:pathLst>
              <a:path w="176" h="731">
                <a:moveTo>
                  <a:pt x="176" y="0"/>
                </a:moveTo>
                <a:cubicBezTo>
                  <a:pt x="167" y="102"/>
                  <a:pt x="153" y="493"/>
                  <a:pt x="124" y="612"/>
                </a:cubicBezTo>
                <a:cubicBezTo>
                  <a:pt x="95" y="731"/>
                  <a:pt x="26" y="691"/>
                  <a:pt x="0" y="712"/>
                </a:cubicBezTo>
              </a:path>
            </a:pathLst>
          </a:custGeom>
          <a:noFill/>
          <a:ln w="19080">
            <a:solidFill>
              <a:srgbClr val="d67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6400" y="914400"/>
            <a:ext cx="1749240" cy="2209680"/>
            <a:chOff x="5486400" y="914400"/>
            <a:chExt cx="1749240" cy="2209680"/>
          </a:xfrm>
        </p:grpSpPr>
        <p:sp>
          <p:nvSpPr>
            <p:cNvPr id="165" name=""/>
            <p:cNvSpPr/>
            <p:nvPr/>
          </p:nvSpPr>
          <p:spPr>
            <a:xfrm>
              <a:off x="5492520" y="2541600"/>
              <a:ext cx="17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5760" y="2149560"/>
              <a:ext cx="299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440" y="914400"/>
              <a:ext cx="299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5600" y="1542960"/>
              <a:ext cx="468360" cy="1581120"/>
            </a:xfrm>
            <a:custGeom>
              <a:avLst/>
              <a:gdLst/>
              <a:ahLst/>
              <a:rect l="l" t="t" r="r" b="b"/>
              <a:pathLst>
                <a:path w="292" h="564">
                  <a:moveTo>
                    <a:pt x="0" y="0"/>
                  </a:moveTo>
                  <a:cubicBezTo>
                    <a:pt x="7" y="52"/>
                    <a:pt x="13" y="232"/>
                    <a:pt x="44" y="312"/>
                  </a:cubicBezTo>
                  <a:cubicBezTo>
                    <a:pt x="75" y="392"/>
                    <a:pt x="143" y="442"/>
                    <a:pt x="184" y="484"/>
                  </a:cubicBezTo>
                  <a:cubicBezTo>
                    <a:pt x="225" y="526"/>
                    <a:pt x="270" y="547"/>
                    <a:pt x="292" y="564"/>
                  </a:cubicBezTo>
                </a:path>
              </a:pathLst>
            </a:custGeom>
            <a:noFill/>
            <a:ln w="19080">
              <a:solidFill>
                <a:srgbClr val="d67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0960" y="1562040"/>
              <a:ext cx="282600" cy="1160640"/>
            </a:xfrm>
            <a:custGeom>
              <a:avLst/>
              <a:gdLst/>
              <a:ahLst/>
              <a:rect l="l" t="t" r="r" b="b"/>
              <a:pathLst>
                <a:path w="176" h="731">
                  <a:moveTo>
                    <a:pt x="176" y="0"/>
                  </a:moveTo>
                  <a:cubicBezTo>
                    <a:pt x="167" y="102"/>
                    <a:pt x="153" y="493"/>
                    <a:pt x="124" y="612"/>
                  </a:cubicBezTo>
                  <a:cubicBezTo>
                    <a:pt x="95" y="731"/>
                    <a:pt x="26" y="691"/>
                    <a:pt x="0" y="712"/>
                  </a:cubicBezTo>
                </a:path>
              </a:pathLst>
            </a:custGeom>
            <a:noFill/>
            <a:ln w="19080">
              <a:solidFill>
                <a:srgbClr val="d67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89520" y="1523880"/>
              <a:ext cx="3240" cy="156240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486400" y="1549440"/>
              <a:ext cx="458640" cy="1574640"/>
            </a:xfrm>
            <a:custGeom>
              <a:avLst/>
              <a:gdLst/>
              <a:ahLst/>
              <a:rect l="l" t="t" r="r" b="b"/>
              <a:pathLst>
                <a:path w="292" h="564">
                  <a:moveTo>
                    <a:pt x="0" y="0"/>
                  </a:moveTo>
                  <a:cubicBezTo>
                    <a:pt x="7" y="52"/>
                    <a:pt x="13" y="232"/>
                    <a:pt x="44" y="312"/>
                  </a:cubicBezTo>
                  <a:cubicBezTo>
                    <a:pt x="75" y="392"/>
                    <a:pt x="143" y="442"/>
                    <a:pt x="184" y="484"/>
                  </a:cubicBezTo>
                  <a:cubicBezTo>
                    <a:pt x="225" y="526"/>
                    <a:pt x="270" y="547"/>
                    <a:pt x="292" y="564"/>
                  </a:cubicBezTo>
                </a:path>
              </a:pathLst>
            </a:custGeom>
            <a:noFill/>
            <a:ln w="19080">
              <a:solidFill>
                <a:srgbClr val="d67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7880" y="1530360"/>
              <a:ext cx="0" cy="151128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6330960" y="3992040"/>
            <a:ext cx="0" cy="225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3160" y="518940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26400" y="4797360"/>
            <a:ext cx="299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356220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4038480"/>
            <a:ext cx="463680" cy="895320"/>
          </a:xfrm>
          <a:custGeom>
            <a:avLst/>
            <a:gdLst/>
            <a:ahLst/>
            <a:rect l="l" t="t" r="r" b="b"/>
            <a:pathLst>
              <a:path w="292" h="564">
                <a:moveTo>
                  <a:pt x="0" y="0"/>
                </a:moveTo>
                <a:cubicBezTo>
                  <a:pt x="7" y="52"/>
                  <a:pt x="13" y="232"/>
                  <a:pt x="44" y="312"/>
                </a:cubicBezTo>
                <a:cubicBezTo>
                  <a:pt x="75" y="392"/>
                  <a:pt x="143" y="442"/>
                  <a:pt x="184" y="484"/>
                </a:cubicBezTo>
                <a:cubicBezTo>
                  <a:pt x="225" y="526"/>
                  <a:pt x="270" y="547"/>
                  <a:pt x="292" y="564"/>
                </a:cubicBezTo>
              </a:path>
            </a:pathLst>
          </a:custGeom>
          <a:noFill/>
          <a:ln w="19080">
            <a:solidFill>
              <a:srgbClr val="02d0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7440" y="4057560"/>
            <a:ext cx="279360" cy="1160640"/>
          </a:xfrm>
          <a:custGeom>
            <a:avLst/>
            <a:gdLst/>
            <a:ahLst/>
            <a:rect l="l" t="t" r="r" b="b"/>
            <a:pathLst>
              <a:path w="176" h="731">
                <a:moveTo>
                  <a:pt x="176" y="0"/>
                </a:moveTo>
                <a:cubicBezTo>
                  <a:pt x="167" y="102"/>
                  <a:pt x="153" y="493"/>
                  <a:pt x="124" y="612"/>
                </a:cubicBezTo>
                <a:cubicBezTo>
                  <a:pt x="95" y="731"/>
                  <a:pt x="26" y="691"/>
                  <a:pt x="0" y="712"/>
                </a:cubicBezTo>
              </a:path>
            </a:pathLst>
          </a:custGeom>
          <a:noFill/>
          <a:ln w="19080">
            <a:solidFill>
              <a:srgbClr val="02d0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2760" y="4019400"/>
            <a:ext cx="0" cy="2260800"/>
          </a:xfrm>
          <a:prstGeom prst="line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457240" y="5353920"/>
            <a:ext cx="463320" cy="927000"/>
          </a:xfrm>
          <a:custGeom>
            <a:avLst/>
            <a:gdLst/>
            <a:ahLst/>
            <a:rect l="l" t="t" r="r" b="b"/>
            <a:pathLst>
              <a:path w="292" h="564">
                <a:moveTo>
                  <a:pt x="0" y="0"/>
                </a:moveTo>
                <a:cubicBezTo>
                  <a:pt x="7" y="52"/>
                  <a:pt x="13" y="232"/>
                  <a:pt x="44" y="312"/>
                </a:cubicBezTo>
                <a:cubicBezTo>
                  <a:pt x="75" y="392"/>
                  <a:pt x="143" y="442"/>
                  <a:pt x="184" y="484"/>
                </a:cubicBezTo>
                <a:cubicBezTo>
                  <a:pt x="225" y="526"/>
                  <a:pt x="270" y="547"/>
                  <a:pt x="292" y="564"/>
                </a:cubicBezTo>
              </a:path>
            </a:pathLst>
          </a:custGeom>
          <a:noFill/>
          <a:ln w="19080">
            <a:solidFill>
              <a:srgbClr val="02d0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041880" y="5157000"/>
            <a:ext cx="285840" cy="1103400"/>
          </a:xfrm>
          <a:custGeom>
            <a:avLst/>
            <a:gdLst/>
            <a:ahLst/>
            <a:rect l="l" t="t" r="r" b="b"/>
            <a:pathLst>
              <a:path w="176" h="731">
                <a:moveTo>
                  <a:pt x="176" y="0"/>
                </a:moveTo>
                <a:cubicBezTo>
                  <a:pt x="167" y="102"/>
                  <a:pt x="153" y="493"/>
                  <a:pt x="124" y="612"/>
                </a:cubicBezTo>
                <a:cubicBezTo>
                  <a:pt x="95" y="731"/>
                  <a:pt x="26" y="691"/>
                  <a:pt x="0" y="712"/>
                </a:cubicBezTo>
              </a:path>
            </a:pathLst>
          </a:custGeom>
          <a:noFill/>
          <a:ln w="19080">
            <a:solidFill>
              <a:srgbClr val="02d0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5280" y="4025880"/>
            <a:ext cx="0" cy="2273400"/>
          </a:xfrm>
          <a:prstGeom prst="line">
            <a:avLst/>
          </a:prstGeom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59200" y="4011120"/>
            <a:ext cx="0" cy="222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7880" y="520848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2560" y="5105520"/>
            <a:ext cx="870120" cy="1143000"/>
          </a:xfrm>
          <a:custGeom>
            <a:avLst/>
            <a:gdLst/>
            <a:ahLst/>
            <a:rect l="l" t="t" r="r" b="b"/>
            <a:pathLst>
              <a:path w="548" h="641">
                <a:moveTo>
                  <a:pt x="0" y="641"/>
                </a:moveTo>
                <a:cubicBezTo>
                  <a:pt x="21" y="568"/>
                  <a:pt x="74" y="302"/>
                  <a:pt x="124" y="201"/>
                </a:cubicBezTo>
                <a:cubicBezTo>
                  <a:pt x="174" y="100"/>
                  <a:pt x="229" y="66"/>
                  <a:pt x="300" y="33"/>
                </a:cubicBezTo>
                <a:cubicBezTo>
                  <a:pt x="371" y="0"/>
                  <a:pt x="496" y="8"/>
                  <a:pt x="548" y="1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60760" y="481644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19440" y="358128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393920" y="4016160"/>
            <a:ext cx="1440" cy="22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880" y="520848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572000"/>
            <a:ext cx="838080" cy="1219320"/>
          </a:xfrm>
          <a:custGeom>
            <a:avLst/>
            <a:gdLst/>
            <a:ahLst/>
            <a:rect l="l" t="t" r="r" b="b"/>
            <a:pathLst>
              <a:path w="659" h="838">
                <a:moveTo>
                  <a:pt x="0" y="430"/>
                </a:moveTo>
                <a:cubicBezTo>
                  <a:pt x="18" y="441"/>
                  <a:pt x="60" y="428"/>
                  <a:pt x="110" y="494"/>
                </a:cubicBezTo>
                <a:cubicBezTo>
                  <a:pt x="160" y="560"/>
                  <a:pt x="231" y="820"/>
                  <a:pt x="301" y="829"/>
                </a:cubicBezTo>
                <a:cubicBezTo>
                  <a:pt x="371" y="838"/>
                  <a:pt x="471" y="687"/>
                  <a:pt x="531" y="549"/>
                </a:cubicBezTo>
                <a:cubicBezTo>
                  <a:pt x="591" y="411"/>
                  <a:pt x="632" y="114"/>
                  <a:pt x="659" y="0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3920" y="481644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4440" y="3581280"/>
            <a:ext cx="30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2240" y="4602960"/>
            <a:ext cx="838080" cy="1219320"/>
          </a:xfrm>
          <a:custGeom>
            <a:avLst/>
            <a:gdLst/>
            <a:ahLst/>
            <a:rect l="l" t="t" r="r" b="b"/>
            <a:pathLst>
              <a:path w="659" h="838">
                <a:moveTo>
                  <a:pt x="0" y="430"/>
                </a:moveTo>
                <a:cubicBezTo>
                  <a:pt x="18" y="441"/>
                  <a:pt x="60" y="428"/>
                  <a:pt x="110" y="494"/>
                </a:cubicBezTo>
                <a:cubicBezTo>
                  <a:pt x="160" y="560"/>
                  <a:pt x="231" y="820"/>
                  <a:pt x="301" y="829"/>
                </a:cubicBezTo>
                <a:cubicBezTo>
                  <a:pt x="371" y="838"/>
                  <a:pt x="471" y="687"/>
                  <a:pt x="531" y="549"/>
                </a:cubicBezTo>
                <a:cubicBezTo>
                  <a:pt x="591" y="411"/>
                  <a:pt x="632" y="114"/>
                  <a:pt x="659" y="0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997360" y="4196520"/>
            <a:ext cx="798480" cy="1111320"/>
          </a:xfrm>
          <a:custGeom>
            <a:avLst/>
            <a:gdLst/>
            <a:ahLst/>
            <a:rect l="l" t="t" r="r" b="b"/>
            <a:pathLst>
              <a:path w="548" h="641">
                <a:moveTo>
                  <a:pt x="0" y="641"/>
                </a:moveTo>
                <a:cubicBezTo>
                  <a:pt x="21" y="568"/>
                  <a:pt x="74" y="302"/>
                  <a:pt x="124" y="201"/>
                </a:cubicBezTo>
                <a:cubicBezTo>
                  <a:pt x="174" y="100"/>
                  <a:pt x="229" y="66"/>
                  <a:pt x="300" y="33"/>
                </a:cubicBezTo>
                <a:cubicBezTo>
                  <a:pt x="371" y="0"/>
                  <a:pt x="496" y="8"/>
                  <a:pt x="548" y="1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3836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Questi grafici di funzione sono simmetrici rispetto all’ass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31200" y="4406760"/>
            <a:ext cx="1447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Questi grafici di funzione sono simmetrici rispetto all’origine degli a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598800" y="649116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4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541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2  ( funzione pari, funzione dispari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a una funzione f  definita in un insieme A 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immetrico rispetto allo 0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cioè tale che se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allora anche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x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  per ogni x di A)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risult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520" y="2489040"/>
            <a:ext cx="7238880" cy="916920"/>
            <a:chOff x="533520" y="2489040"/>
            <a:chExt cx="7238880" cy="916920"/>
          </a:xfrm>
        </p:grpSpPr>
        <p:sp>
          <p:nvSpPr>
            <p:cNvPr id="200" name=""/>
            <p:cNvSpPr/>
            <p:nvPr/>
          </p:nvSpPr>
          <p:spPr>
            <a:xfrm>
              <a:off x="762120" y="2489040"/>
              <a:ext cx="7010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(-x) =  -f(x)  ,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x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llora la funzione si dirà  </a:t>
              </a:r>
              <a:r>
                <a:rPr b="0" i="1" lang="en-US" sz="1800" spc="-1" strike="noStrike">
                  <a:solidFill>
                    <a:srgbClr val="008080"/>
                  </a:solidFill>
                  <a:latin typeface="Comic Sans MS"/>
                </a:rPr>
                <a:t>DISPAR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  (ed il suo grafico risulterà simmetrico rispetto all’origine degli ass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2641320"/>
              <a:ext cx="75960" cy="763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520" y="1333440"/>
            <a:ext cx="7086600" cy="916920"/>
            <a:chOff x="533520" y="1333440"/>
            <a:chExt cx="7086600" cy="916920"/>
          </a:xfrm>
        </p:grpSpPr>
        <p:sp>
          <p:nvSpPr>
            <p:cNvPr id="203" name=""/>
            <p:cNvSpPr/>
            <p:nvPr/>
          </p:nvSpPr>
          <p:spPr>
            <a:xfrm>
              <a:off x="685800" y="1333440"/>
              <a:ext cx="693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(-x) =  f(x)  ,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x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llora la funzione si dirà  </a:t>
              </a:r>
              <a:r>
                <a:rPr b="0" i="1" lang="en-US" sz="1800" spc="-1" strike="noStrike">
                  <a:solidFill>
                    <a:srgbClr val="a50021"/>
                  </a:solidFill>
                  <a:latin typeface="Comic Sans MS"/>
                </a:rPr>
                <a:t>PARI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 (ed il suo grafico risulterà simmetrico rispetto all’asse 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520" y="1486080"/>
              <a:ext cx="75960" cy="7596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74840" y="3747960"/>
            <a:ext cx="8915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Osservazione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Se una funzione è pari o dispari e conosciamo il suo andamento per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0 ,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ora possiamo dedurre il suo andamento   p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3276720"/>
            <a:ext cx="838080" cy="3070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" y="23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01760" y="4723920"/>
            <a:ext cx="3827520" cy="1686240"/>
            <a:chOff x="401760" y="4723920"/>
            <a:chExt cx="3827520" cy="1686240"/>
          </a:xfrm>
        </p:grpSpPr>
        <p:sp>
          <p:nvSpPr>
            <p:cNvPr id="209" name=""/>
            <p:cNvSpPr/>
            <p:nvPr/>
          </p:nvSpPr>
          <p:spPr>
            <a:xfrm>
              <a:off x="3740040" y="5035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01760" y="4723920"/>
              <a:ext cx="3827520" cy="1686240"/>
              <a:chOff x="401760" y="4723920"/>
              <a:chExt cx="3827520" cy="168624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276720" y="4723920"/>
                <a:ext cx="0" cy="167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62320" y="5970240"/>
                <a:ext cx="186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1760" y="4979160"/>
                <a:ext cx="2036520" cy="14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fatti, quando f è pari, se il punto P( 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y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 appartiene al grafico   allora vi appartiene anche il punto           P’(-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y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06840" y="5918400"/>
                <a:ext cx="380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19320" y="5055120"/>
                <a:ext cx="3366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3733920" y="5347440"/>
                <a:ext cx="0" cy="62280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276720" y="5347440"/>
                <a:ext cx="45720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06840" y="4970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50021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2558880" y="4984920"/>
            <a:ext cx="694080" cy="1213560"/>
            <a:chOff x="2558880" y="4984920"/>
            <a:chExt cx="694080" cy="1213560"/>
          </a:xfrm>
        </p:grpSpPr>
        <p:sp>
          <p:nvSpPr>
            <p:cNvPr id="220" name=""/>
            <p:cNvSpPr/>
            <p:nvPr/>
          </p:nvSpPr>
          <p:spPr>
            <a:xfrm>
              <a:off x="2659320" y="5897160"/>
              <a:ext cx="379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23840" y="5347080"/>
              <a:ext cx="0" cy="59976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58880" y="5047200"/>
              <a:ext cx="3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13760" y="5347080"/>
              <a:ext cx="439200" cy="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6040" y="498492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52880" y="4723920"/>
            <a:ext cx="3873600" cy="1722600"/>
            <a:chOff x="4952880" y="4723920"/>
            <a:chExt cx="3873600" cy="1722600"/>
          </a:xfrm>
        </p:grpSpPr>
        <p:sp>
          <p:nvSpPr>
            <p:cNvPr id="226" name=""/>
            <p:cNvSpPr/>
            <p:nvPr/>
          </p:nvSpPr>
          <p:spPr>
            <a:xfrm>
              <a:off x="8407440" y="5581800"/>
              <a:ext cx="380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94840" y="4737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52880" y="4723920"/>
              <a:ext cx="3873600" cy="1722600"/>
              <a:chOff x="4952880" y="4723920"/>
              <a:chExt cx="3873600" cy="17226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824960" y="4723920"/>
                <a:ext cx="0" cy="17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894360" y="5637240"/>
                <a:ext cx="192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2880" y="4991040"/>
                <a:ext cx="2057400" cy="14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uando f è dispari, se il punto P( 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y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 appartiene al grafico allora vi appartiene anche il punto            P’(-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- y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43800" y="4919760"/>
                <a:ext cx="380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510040" y="4788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50021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34520" y="5105520"/>
                <a:ext cx="0" cy="53316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848360" y="5105520"/>
                <a:ext cx="685800" cy="0"/>
              </a:xfrm>
              <a:prstGeom prst="line">
                <a:avLst/>
              </a:prstGeom>
              <a:ln cap="rnd" w="3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6719040" y="5391000"/>
            <a:ext cx="1472400" cy="1048680"/>
            <a:chOff x="6719040" y="5391000"/>
            <a:chExt cx="1472400" cy="1048680"/>
          </a:xfrm>
        </p:grpSpPr>
        <p:sp>
          <p:nvSpPr>
            <p:cNvPr id="237" name=""/>
            <p:cNvSpPr/>
            <p:nvPr/>
          </p:nvSpPr>
          <p:spPr>
            <a:xfrm>
              <a:off x="6972480" y="57974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10560" y="6013440"/>
              <a:ext cx="380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y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21360" y="5391000"/>
              <a:ext cx="381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9040" y="61023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05680" y="5638680"/>
              <a:ext cx="0" cy="53352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086240" y="6172200"/>
              <a:ext cx="685800" cy="0"/>
            </a:xfrm>
            <a:prstGeom prst="line">
              <a:avLst/>
            </a:prstGeom>
            <a:ln cap="rnd" w="3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5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4120" y="19692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FICI DI FUNZIONI ELE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3520" y="1143000"/>
            <a:ext cx="2244960" cy="307080"/>
            <a:chOff x="533520" y="1143000"/>
            <a:chExt cx="2244960" cy="307080"/>
          </a:xfrm>
        </p:grpSpPr>
        <p:sp>
          <p:nvSpPr>
            <p:cNvPr id="246" name=""/>
            <p:cNvSpPr/>
            <p:nvPr/>
          </p:nvSpPr>
          <p:spPr>
            <a:xfrm>
              <a:off x="533520" y="1247760"/>
              <a:ext cx="75960" cy="76320"/>
            </a:xfrm>
            <a:prstGeom prst="octagon">
              <a:avLst>
                <a:gd name="adj" fmla="val 2928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9960" y="1143000"/>
              <a:ext cx="201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ZIONE COST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200400" y="1066680"/>
            <a:ext cx="990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562040"/>
            <a:ext cx="49528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ini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omini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{ k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c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tta parallela all’asse x di equazione y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1600200"/>
            <a:ext cx="251460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248520" y="685440"/>
            <a:ext cx="2590560" cy="1981080"/>
            <a:chOff x="6248520" y="685440"/>
            <a:chExt cx="2590560" cy="1981080"/>
          </a:xfrm>
        </p:grpSpPr>
        <p:sp>
          <p:nvSpPr>
            <p:cNvPr id="252" name=""/>
            <p:cNvSpPr/>
            <p:nvPr/>
          </p:nvSpPr>
          <p:spPr>
            <a:xfrm>
              <a:off x="6248520" y="22860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543800" y="6854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1880" y="2286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8880" y="6858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7960" y="2266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238880" y="1295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52600" y="3333600"/>
            <a:ext cx="8381880" cy="3009240"/>
            <a:chOff x="552600" y="3333600"/>
            <a:chExt cx="8381880" cy="3009240"/>
          </a:xfrm>
        </p:grpSpPr>
        <p:grpSp>
          <p:nvGrpSpPr>
            <p:cNvPr id="259" name=""/>
            <p:cNvGrpSpPr/>
            <p:nvPr/>
          </p:nvGrpSpPr>
          <p:grpSpPr>
            <a:xfrm>
              <a:off x="552600" y="3371400"/>
              <a:ext cx="2781720" cy="307080"/>
              <a:chOff x="552600" y="3371400"/>
              <a:chExt cx="2781720" cy="3070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2600" y="3476160"/>
                <a:ext cx="75960" cy="76320"/>
              </a:xfrm>
              <a:prstGeom prst="octagon">
                <a:avLst>
                  <a:gd name="adj" fmla="val 29287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3320" y="3371400"/>
                <a:ext cx="251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FUNZIONE LINEARE (RETT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17880" y="3333600"/>
              <a:ext cx="137160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 = a x +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600" y="3904920"/>
              <a:ext cx="2895480" cy="18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inio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GoudyHandtooled BT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ominio:</a:t>
              </a:r>
              <a:r>
                <a:rPr b="0" lang="en-US" sz="1800" spc="-1" strike="noStrike">
                  <a:solidFill>
                    <a:srgbClr val="000000"/>
                  </a:solidFill>
                  <a:latin typeface="GoudyHandtooled BT"/>
                </a:rPr>
                <a:t> 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afico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retta di coefficiente angolare  a  ,                    inclinata verso l’alto se  a &gt; 0, verso il basso se a &lt; 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295800" y="4361760"/>
              <a:ext cx="2590560" cy="1981080"/>
              <a:chOff x="3295800" y="4361760"/>
              <a:chExt cx="2590560" cy="198108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3295800" y="4361760"/>
                <a:ext cx="2590560" cy="1981080"/>
                <a:chOff x="3295800" y="4361760"/>
                <a:chExt cx="2590560" cy="1981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295800" y="59623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4591080" y="43617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29160" y="596232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286160" y="4362120"/>
                  <a:ext cx="609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305240" y="5943240"/>
                  <a:ext cx="381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 flipV="1">
                <a:off x="3371760" y="4971240"/>
                <a:ext cx="2286000" cy="129564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96000" y="45144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cc"/>
                    </a:solidFill>
                    <a:latin typeface="Arial"/>
                  </a:rPr>
                  <a:t>a &gt;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343560" y="4361760"/>
              <a:ext cx="2590920" cy="1981080"/>
              <a:chOff x="6343560" y="4361760"/>
              <a:chExt cx="2590920" cy="19810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343560" y="4361760"/>
                <a:ext cx="2590560" cy="1981080"/>
                <a:chOff x="6343560" y="4361760"/>
                <a:chExt cx="2590560" cy="19810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343560" y="5962320"/>
                  <a:ext cx="25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7638840" y="43617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476920" y="596232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33920" y="4362120"/>
                  <a:ext cx="609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53000" y="5943240"/>
                  <a:ext cx="381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6648480" y="4895640"/>
                <a:ext cx="2286000" cy="914400"/>
              </a:xfrm>
              <a:prstGeom prst="line">
                <a:avLst/>
              </a:prstGeom>
              <a:ln w="1908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43760" y="45144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900ff"/>
                    </a:solidFill>
                    <a:latin typeface="Arial"/>
                  </a:rPr>
                  <a:t>a &lt;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58920" y="380880"/>
            <a:ext cx="3627360" cy="307080"/>
            <a:chOff x="358920" y="380880"/>
            <a:chExt cx="3627360" cy="307080"/>
          </a:xfrm>
        </p:grpSpPr>
        <p:sp>
          <p:nvSpPr>
            <p:cNvPr id="283" name=""/>
            <p:cNvSpPr/>
            <p:nvPr/>
          </p:nvSpPr>
          <p:spPr>
            <a:xfrm>
              <a:off x="358920" y="485640"/>
              <a:ext cx="75960" cy="76320"/>
            </a:xfrm>
            <a:prstGeom prst="octagon">
              <a:avLst>
                <a:gd name="adj" fmla="val 2928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640" y="380880"/>
              <a:ext cx="335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ZIONE QUADRATICA  (PARABOL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6080" y="914400"/>
            <a:ext cx="4724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ini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c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arabola con asse di simmetria parallelo all’asse y , concavità verso l’alto se a &gt; 0,  verso il basso se  a &lt;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338040"/>
            <a:ext cx="2057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a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b x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29680" y="7617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555040" y="234324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61040" y="7621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49960" y="2336760"/>
            <a:ext cx="4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1295280"/>
            <a:ext cx="946080" cy="1263600"/>
          </a:xfrm>
          <a:custGeom>
            <a:avLst/>
            <a:gdLst/>
            <a:ahLst/>
            <a:rect l="l" t="t" r="r" b="b"/>
            <a:pathLst>
              <a:path w="548" h="796">
                <a:moveTo>
                  <a:pt x="0" y="796"/>
                </a:moveTo>
                <a:cubicBezTo>
                  <a:pt x="14" y="727"/>
                  <a:pt x="54" y="501"/>
                  <a:pt x="84" y="384"/>
                </a:cubicBezTo>
                <a:cubicBezTo>
                  <a:pt x="114" y="267"/>
                  <a:pt x="149" y="160"/>
                  <a:pt x="180" y="96"/>
                </a:cubicBezTo>
                <a:cubicBezTo>
                  <a:pt x="211" y="32"/>
                  <a:pt x="239" y="0"/>
                  <a:pt x="268" y="0"/>
                </a:cubicBezTo>
                <a:cubicBezTo>
                  <a:pt x="297" y="0"/>
                  <a:pt x="325" y="31"/>
                  <a:pt x="356" y="96"/>
                </a:cubicBezTo>
                <a:cubicBezTo>
                  <a:pt x="387" y="161"/>
                  <a:pt x="424" y="271"/>
                  <a:pt x="456" y="388"/>
                </a:cubicBezTo>
                <a:cubicBezTo>
                  <a:pt x="488" y="505"/>
                  <a:pt x="529" y="711"/>
                  <a:pt x="548" y="796"/>
                </a:cubicBezTo>
              </a:path>
            </a:pathLst>
          </a:custGeom>
          <a:noFill/>
          <a:ln w="19080">
            <a:solidFill>
              <a:srgbClr val="018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696080" y="1294560"/>
            <a:ext cx="914400" cy="1143000"/>
          </a:xfrm>
          <a:custGeom>
            <a:avLst/>
            <a:gdLst/>
            <a:ahLst/>
            <a:rect l="l" t="t" r="r" b="b"/>
            <a:pathLst>
              <a:path w="548" h="796">
                <a:moveTo>
                  <a:pt x="0" y="796"/>
                </a:moveTo>
                <a:cubicBezTo>
                  <a:pt x="14" y="727"/>
                  <a:pt x="54" y="501"/>
                  <a:pt x="84" y="384"/>
                </a:cubicBezTo>
                <a:cubicBezTo>
                  <a:pt x="114" y="267"/>
                  <a:pt x="149" y="160"/>
                  <a:pt x="180" y="96"/>
                </a:cubicBezTo>
                <a:cubicBezTo>
                  <a:pt x="211" y="32"/>
                  <a:pt x="239" y="0"/>
                  <a:pt x="268" y="0"/>
                </a:cubicBezTo>
                <a:cubicBezTo>
                  <a:pt x="297" y="0"/>
                  <a:pt x="325" y="31"/>
                  <a:pt x="356" y="96"/>
                </a:cubicBezTo>
                <a:cubicBezTo>
                  <a:pt x="387" y="161"/>
                  <a:pt x="424" y="271"/>
                  <a:pt x="456" y="388"/>
                </a:cubicBezTo>
                <a:cubicBezTo>
                  <a:pt x="488" y="505"/>
                  <a:pt x="529" y="711"/>
                  <a:pt x="548" y="796"/>
                </a:cubicBezTo>
              </a:path>
            </a:pathLst>
          </a:custGeom>
          <a:noFill/>
          <a:ln w="190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22800" y="145404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a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1840" y="19810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8578"/>
                </a:solidFill>
                <a:latin typeface="Arial"/>
              </a:rPr>
              <a:t>a &l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6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9880" y="3090960"/>
            <a:ext cx="8883720" cy="3568320"/>
            <a:chOff x="299880" y="3090960"/>
            <a:chExt cx="8883720" cy="3568320"/>
          </a:xfrm>
        </p:grpSpPr>
        <p:grpSp>
          <p:nvGrpSpPr>
            <p:cNvPr id="298" name=""/>
            <p:cNvGrpSpPr/>
            <p:nvPr/>
          </p:nvGrpSpPr>
          <p:grpSpPr>
            <a:xfrm>
              <a:off x="6716880" y="4190760"/>
              <a:ext cx="2466720" cy="2160360"/>
              <a:chOff x="6716880" y="4190760"/>
              <a:chExt cx="2466720" cy="2160360"/>
            </a:xfrm>
          </p:grpSpPr>
          <p:sp>
            <p:nvSpPr>
              <p:cNvPr id="299" name=""/>
              <p:cNvSpPr/>
              <p:nvPr/>
            </p:nvSpPr>
            <p:spPr>
              <a:xfrm>
                <a:off x="8663040" y="541800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783560" y="4190760"/>
                <a:ext cx="0" cy="21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16880" y="541008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18240" y="5380200"/>
                <a:ext cx="38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86560" y="4270320"/>
                <a:ext cx="52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8076960" y="457200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80"/>
                  </a:solidFill>
                  <a:latin typeface="Arial"/>
                </a:rPr>
                <a:t>k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99880" y="3090960"/>
              <a:ext cx="6532200" cy="3568320"/>
              <a:chOff x="299880" y="3090960"/>
              <a:chExt cx="6532200" cy="35683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55680" y="3090960"/>
                <a:ext cx="4263120" cy="307080"/>
                <a:chOff x="355680" y="3090960"/>
                <a:chExt cx="4263120" cy="3070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55680" y="3195360"/>
                  <a:ext cx="75960" cy="7596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a50021"/>
                </a:solidFill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6160" y="3090960"/>
                  <a:ext cx="3932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Comic Sans MS"/>
                    </a:rPr>
                    <a:t>FUNZIONE  DI PROPORZIONALITA’  INVERS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99880" y="3657600"/>
                <a:ext cx="3733920" cy="30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minio: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oudyHandtooled BT"/>
                  </a:rPr>
                  <a:t>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–  { 0 }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(ovvero x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0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dominio: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oudyHandtooled BT"/>
                  </a:rPr>
                  <a:t>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–  { 0 }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mmetrie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oudyHandtooled BT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unzione dispar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afico: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se k &gt; 0 il grafico è nel primo e nel terzo quadrante, mentre se k &lt; 0 il grafico si trova nel secondo e nel quarto  quadrante                                              (in entrambi i casi il grafico è una iperbole equilatera riferita agli asintot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4905360" y="3110040"/>
                <a:ext cx="1926720" cy="795240"/>
                <a:chOff x="4905360" y="3110040"/>
                <a:chExt cx="1926720" cy="7952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905360" y="3110040"/>
                  <a:ext cx="1344240" cy="795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03720" y="3292200"/>
                  <a:ext cx="172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y =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13" name=""/>
                    <p:cNvSpPr txBox="1"/>
                    <p:nvPr/>
                  </p:nvSpPr>
                  <p:spPr>
                    <a:xfrm>
                      <a:off x="5609160" y="3128040"/>
                      <a:ext cx="240120" cy="704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14" name=""/>
              <p:cNvGrpSpPr/>
              <p:nvPr/>
            </p:nvGrpSpPr>
            <p:grpSpPr>
              <a:xfrm>
                <a:off x="4114800" y="4200480"/>
                <a:ext cx="2467080" cy="2160720"/>
                <a:chOff x="4114800" y="4200480"/>
                <a:chExt cx="2467080" cy="21607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060960" y="5427720"/>
                  <a:ext cx="520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5181480" y="4200480"/>
                  <a:ext cx="0" cy="216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114800" y="54198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929120" y="538308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884840" y="4280040"/>
                  <a:ext cx="520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245200" y="4324320"/>
                <a:ext cx="946080" cy="1041480"/>
              </a:xfrm>
              <a:custGeom>
                <a:avLst/>
                <a:gdLst/>
                <a:ahLst/>
                <a:rect l="l" t="t" r="r" b="b"/>
                <a:pathLst>
                  <a:path w="596" h="656">
                    <a:moveTo>
                      <a:pt x="0" y="0"/>
                    </a:moveTo>
                    <a:cubicBezTo>
                      <a:pt x="4" y="53"/>
                      <a:pt x="8" y="228"/>
                      <a:pt x="24" y="320"/>
                    </a:cubicBezTo>
                    <a:cubicBezTo>
                      <a:pt x="40" y="412"/>
                      <a:pt x="49" y="499"/>
                      <a:pt x="96" y="552"/>
                    </a:cubicBezTo>
                    <a:cubicBezTo>
                      <a:pt x="143" y="605"/>
                      <a:pt x="221" y="619"/>
                      <a:pt x="304" y="636"/>
                    </a:cubicBezTo>
                    <a:cubicBezTo>
                      <a:pt x="387" y="653"/>
                      <a:pt x="535" y="652"/>
                      <a:pt x="596" y="656"/>
                    </a:cubicBezTo>
                  </a:path>
                </a:pathLst>
              </a:custGeom>
              <a:noFill/>
              <a:ln w="1908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4197240" y="5467320"/>
                <a:ext cx="920880" cy="959040"/>
              </a:xfrm>
              <a:custGeom>
                <a:avLst/>
                <a:gdLst/>
                <a:ahLst/>
                <a:rect l="l" t="t" r="r" b="b"/>
                <a:pathLst>
                  <a:path w="596" h="656">
                    <a:moveTo>
                      <a:pt x="0" y="0"/>
                    </a:moveTo>
                    <a:cubicBezTo>
                      <a:pt x="4" y="53"/>
                      <a:pt x="8" y="228"/>
                      <a:pt x="24" y="320"/>
                    </a:cubicBezTo>
                    <a:cubicBezTo>
                      <a:pt x="40" y="412"/>
                      <a:pt x="49" y="499"/>
                      <a:pt x="96" y="552"/>
                    </a:cubicBezTo>
                    <a:cubicBezTo>
                      <a:pt x="143" y="605"/>
                      <a:pt x="221" y="619"/>
                      <a:pt x="304" y="636"/>
                    </a:cubicBezTo>
                    <a:cubicBezTo>
                      <a:pt x="387" y="653"/>
                      <a:pt x="535" y="652"/>
                      <a:pt x="596" y="656"/>
                    </a:cubicBezTo>
                  </a:path>
                </a:pathLst>
              </a:custGeom>
              <a:noFill/>
              <a:ln w="1908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360" y="457200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d01ff"/>
                    </a:solidFill>
                    <a:latin typeface="Arial"/>
                  </a:rPr>
                  <a:t>k &gt;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7861320" y="5460840"/>
              <a:ext cx="946080" cy="882720"/>
            </a:xfrm>
            <a:custGeom>
              <a:avLst/>
              <a:gdLst/>
              <a:ahLst/>
              <a:rect l="l" t="t" r="r" b="b"/>
              <a:pathLst>
                <a:path w="596" h="656">
                  <a:moveTo>
                    <a:pt x="0" y="0"/>
                  </a:moveTo>
                  <a:cubicBezTo>
                    <a:pt x="4" y="53"/>
                    <a:pt x="8" y="228"/>
                    <a:pt x="24" y="320"/>
                  </a:cubicBezTo>
                  <a:cubicBezTo>
                    <a:pt x="40" y="412"/>
                    <a:pt x="49" y="499"/>
                    <a:pt x="96" y="552"/>
                  </a:cubicBezTo>
                  <a:cubicBezTo>
                    <a:pt x="143" y="605"/>
                    <a:pt x="221" y="619"/>
                    <a:pt x="304" y="636"/>
                  </a:cubicBezTo>
                  <a:cubicBezTo>
                    <a:pt x="387" y="653"/>
                    <a:pt x="535" y="652"/>
                    <a:pt x="596" y="656"/>
                  </a:cubicBezTo>
                </a:path>
              </a:pathLst>
            </a:custGeom>
            <a:noFill/>
            <a:ln w="190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692760" y="4305240"/>
              <a:ext cx="1028880" cy="1041480"/>
            </a:xfrm>
            <a:custGeom>
              <a:avLst/>
              <a:gdLst/>
              <a:ahLst/>
              <a:rect l="l" t="t" r="r" b="b"/>
              <a:pathLst>
                <a:path w="596" h="656">
                  <a:moveTo>
                    <a:pt x="0" y="0"/>
                  </a:moveTo>
                  <a:cubicBezTo>
                    <a:pt x="4" y="53"/>
                    <a:pt x="8" y="228"/>
                    <a:pt x="24" y="320"/>
                  </a:cubicBezTo>
                  <a:cubicBezTo>
                    <a:pt x="40" y="412"/>
                    <a:pt x="49" y="499"/>
                    <a:pt x="96" y="552"/>
                  </a:cubicBezTo>
                  <a:cubicBezTo>
                    <a:pt x="143" y="605"/>
                    <a:pt x="221" y="619"/>
                    <a:pt x="304" y="636"/>
                  </a:cubicBezTo>
                  <a:cubicBezTo>
                    <a:pt x="387" y="653"/>
                    <a:pt x="535" y="652"/>
                    <a:pt x="596" y="656"/>
                  </a:cubicBezTo>
                </a:path>
              </a:pathLst>
            </a:custGeom>
            <a:noFill/>
            <a:ln w="190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7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7200" y="609480"/>
            <a:ext cx="2652120" cy="307080"/>
            <a:chOff x="457200" y="609480"/>
            <a:chExt cx="2652120" cy="307080"/>
          </a:xfrm>
        </p:grpSpPr>
        <p:sp>
          <p:nvSpPr>
            <p:cNvPr id="327" name=""/>
            <p:cNvSpPr/>
            <p:nvPr/>
          </p:nvSpPr>
          <p:spPr>
            <a:xfrm>
              <a:off x="457200" y="714240"/>
              <a:ext cx="75960" cy="76320"/>
            </a:xfrm>
            <a:prstGeom prst="octagon">
              <a:avLst>
                <a:gd name="adj" fmla="val 2928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3440" y="60948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ZIONE ESPONENZI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962520" y="546120"/>
            <a:ext cx="32763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a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  a &gt; 0 ,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219320"/>
            <a:ext cx="297180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ini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ominio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0, 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c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i trova sempre al di sopra dell’asse x ed interseca l’asse y nel punto (0,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19720" y="1294920"/>
            <a:ext cx="4297320" cy="2361960"/>
            <a:chOff x="4419720" y="1294920"/>
            <a:chExt cx="4297320" cy="2361960"/>
          </a:xfrm>
        </p:grpSpPr>
        <p:sp>
          <p:nvSpPr>
            <p:cNvPr id="332" name=""/>
            <p:cNvSpPr/>
            <p:nvPr/>
          </p:nvSpPr>
          <p:spPr>
            <a:xfrm>
              <a:off x="4419720" y="3288960"/>
              <a:ext cx="41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329520" y="12949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75600" y="3263760"/>
              <a:ext cx="5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78600" y="1331640"/>
              <a:ext cx="72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54840" y="3263760"/>
              <a:ext cx="4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8920" y="247644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400640" y="1314360"/>
            <a:ext cx="3047760" cy="1873440"/>
          </a:xfrm>
          <a:custGeom>
            <a:avLst/>
            <a:gdLst/>
            <a:ahLst/>
            <a:rect l="l" t="t" r="r" b="b"/>
            <a:pathLst>
              <a:path w="1920" h="1180">
                <a:moveTo>
                  <a:pt x="0" y="1180"/>
                </a:moveTo>
                <a:cubicBezTo>
                  <a:pt x="51" y="1176"/>
                  <a:pt x="199" y="1167"/>
                  <a:pt x="306" y="1156"/>
                </a:cubicBezTo>
                <a:cubicBezTo>
                  <a:pt x="413" y="1145"/>
                  <a:pt x="524" y="1133"/>
                  <a:pt x="644" y="1112"/>
                </a:cubicBezTo>
                <a:cubicBezTo>
                  <a:pt x="764" y="1091"/>
                  <a:pt x="917" y="1060"/>
                  <a:pt x="1028" y="1028"/>
                </a:cubicBezTo>
                <a:cubicBezTo>
                  <a:pt x="1139" y="996"/>
                  <a:pt x="1210" y="980"/>
                  <a:pt x="1308" y="922"/>
                </a:cubicBezTo>
                <a:cubicBezTo>
                  <a:pt x="1406" y="864"/>
                  <a:pt x="1538" y="759"/>
                  <a:pt x="1614" y="682"/>
                </a:cubicBezTo>
                <a:cubicBezTo>
                  <a:pt x="1690" y="605"/>
                  <a:pt x="1727" y="532"/>
                  <a:pt x="1768" y="456"/>
                </a:cubicBezTo>
                <a:cubicBezTo>
                  <a:pt x="1809" y="380"/>
                  <a:pt x="1835" y="304"/>
                  <a:pt x="1860" y="228"/>
                </a:cubicBezTo>
                <a:cubicBezTo>
                  <a:pt x="1885" y="152"/>
                  <a:pt x="1908" y="47"/>
                  <a:pt x="1920" y="0"/>
                </a:cubicBezTo>
              </a:path>
            </a:pathLst>
          </a:custGeom>
          <a:noFill/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600200"/>
            <a:ext cx="838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y = a </a:t>
            </a:r>
            <a:r>
              <a:rPr b="1" lang="en-US" sz="1400" spc="-1" strike="noStrike" baseline="30000">
                <a:solidFill>
                  <a:srgbClr val="3399ff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(a &gt;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02000" y="2579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200" y="3962160"/>
            <a:ext cx="8259840" cy="2519640"/>
            <a:chOff x="457200" y="3962160"/>
            <a:chExt cx="8259840" cy="2519640"/>
          </a:xfrm>
        </p:grpSpPr>
        <p:sp>
          <p:nvSpPr>
            <p:cNvPr id="342" name=""/>
            <p:cNvSpPr/>
            <p:nvPr/>
          </p:nvSpPr>
          <p:spPr>
            <a:xfrm>
              <a:off x="457200" y="4800600"/>
              <a:ext cx="28195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e  0 &lt; a &lt; 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quando  x  tende a  +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y tende a  0  ;                      quando  x  tende a  -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y tende a +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419720" y="3962160"/>
              <a:ext cx="4297320" cy="2361960"/>
              <a:chOff x="4419720" y="3962160"/>
              <a:chExt cx="4297320" cy="2361960"/>
            </a:xfrm>
          </p:grpSpPr>
          <p:sp>
            <p:nvSpPr>
              <p:cNvPr id="344" name=""/>
              <p:cNvSpPr/>
              <p:nvPr/>
            </p:nvSpPr>
            <p:spPr>
              <a:xfrm>
                <a:off x="4419720" y="5956200"/>
                <a:ext cx="411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329520" y="396216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175600" y="5930640"/>
                <a:ext cx="54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78600" y="39985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54840" y="5930640"/>
                <a:ext cx="45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08920" y="51433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181480" y="3975120"/>
              <a:ext cx="3181320" cy="1882800"/>
            </a:xfrm>
            <a:custGeom>
              <a:avLst/>
              <a:gdLst/>
              <a:ahLst/>
              <a:rect l="l" t="t" r="r" b="b"/>
              <a:pathLst>
                <a:path w="2004" h="1186">
                  <a:moveTo>
                    <a:pt x="2004" y="1186"/>
                  </a:moveTo>
                  <a:cubicBezTo>
                    <a:pt x="1951" y="1182"/>
                    <a:pt x="1796" y="1174"/>
                    <a:pt x="1685" y="1162"/>
                  </a:cubicBezTo>
                  <a:cubicBezTo>
                    <a:pt x="1573" y="1150"/>
                    <a:pt x="1461" y="1136"/>
                    <a:pt x="1334" y="1114"/>
                  </a:cubicBezTo>
                  <a:cubicBezTo>
                    <a:pt x="1207" y="1092"/>
                    <a:pt x="1037" y="1061"/>
                    <a:pt x="921" y="1030"/>
                  </a:cubicBezTo>
                  <a:cubicBezTo>
                    <a:pt x="805" y="999"/>
                    <a:pt x="726" y="972"/>
                    <a:pt x="639" y="928"/>
                  </a:cubicBezTo>
                  <a:cubicBezTo>
                    <a:pt x="552" y="884"/>
                    <a:pt x="471" y="827"/>
                    <a:pt x="400" y="764"/>
                  </a:cubicBezTo>
                  <a:cubicBezTo>
                    <a:pt x="329" y="701"/>
                    <a:pt x="267" y="629"/>
                    <a:pt x="212" y="552"/>
                  </a:cubicBezTo>
                  <a:cubicBezTo>
                    <a:pt x="157" y="475"/>
                    <a:pt x="107" y="392"/>
                    <a:pt x="72" y="300"/>
                  </a:cubicBezTo>
                  <a:cubicBezTo>
                    <a:pt x="37" y="208"/>
                    <a:pt x="15" y="62"/>
                    <a:pt x="0" y="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4419720"/>
              <a:ext cx="10666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y = a </a:t>
              </a:r>
              <a:r>
                <a:rPr b="1" lang="en-US" sz="1400" spc="-1" strike="noStrike" baseline="30000">
                  <a:solidFill>
                    <a:srgbClr val="009999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(0 &lt; a &lt;  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06840" y="5257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7200" y="312408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 a &gt;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quando  x  tende a 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nche   y  tende a 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;               quando  x  tende a  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y  tende a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555960" y="6477120"/>
            <a:ext cx="221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GRAFICO DI UNA FUNZIONE   8 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57200" y="609480"/>
            <a:ext cx="2552040" cy="307080"/>
            <a:chOff x="457200" y="609480"/>
            <a:chExt cx="2552040" cy="307080"/>
          </a:xfrm>
        </p:grpSpPr>
        <p:sp>
          <p:nvSpPr>
            <p:cNvPr id="356" name=""/>
            <p:cNvSpPr/>
            <p:nvPr/>
          </p:nvSpPr>
          <p:spPr>
            <a:xfrm>
              <a:off x="457200" y="714240"/>
              <a:ext cx="75960" cy="76320"/>
            </a:xfrm>
            <a:prstGeom prst="octagon">
              <a:avLst>
                <a:gd name="adj" fmla="val 2928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0480" y="60948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ZIONE LOGARIT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57200" y="1219320"/>
            <a:ext cx="312408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ini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] 0, 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ominio:   </a:t>
            </a:r>
            <a:r>
              <a:rPr b="0" lang="en-US" sz="1800" spc="-1" strike="noStrike">
                <a:solidFill>
                  <a:srgbClr val="000000"/>
                </a:solidFill>
                <a:latin typeface="GoudyHandtooled B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c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i trova sempre a destra dell’asse y  ed interseca l’asse x nel punto (1,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546120"/>
            <a:ext cx="342900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  a &gt; 0 ,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71960" y="1762200"/>
            <a:ext cx="1828800" cy="2003400"/>
          </a:xfrm>
          <a:custGeom>
            <a:avLst/>
            <a:gdLst/>
            <a:ahLst/>
            <a:rect l="l" t="t" r="r" b="b"/>
            <a:pathLst>
              <a:path w="1152" h="1262">
                <a:moveTo>
                  <a:pt x="1152" y="0"/>
                </a:moveTo>
                <a:cubicBezTo>
                  <a:pt x="1121" y="4"/>
                  <a:pt x="1032" y="13"/>
                  <a:pt x="968" y="26"/>
                </a:cubicBezTo>
                <a:cubicBezTo>
                  <a:pt x="903" y="38"/>
                  <a:pt x="834" y="56"/>
                  <a:pt x="765" y="77"/>
                </a:cubicBezTo>
                <a:cubicBezTo>
                  <a:pt x="696" y="98"/>
                  <a:pt x="626" y="114"/>
                  <a:pt x="556" y="150"/>
                </a:cubicBezTo>
                <a:cubicBezTo>
                  <a:pt x="486" y="186"/>
                  <a:pt x="407" y="228"/>
                  <a:pt x="344" y="290"/>
                </a:cubicBezTo>
                <a:cubicBezTo>
                  <a:pt x="281" y="352"/>
                  <a:pt x="221" y="439"/>
                  <a:pt x="176" y="522"/>
                </a:cubicBezTo>
                <a:cubicBezTo>
                  <a:pt x="131" y="605"/>
                  <a:pt x="101" y="699"/>
                  <a:pt x="76" y="786"/>
                </a:cubicBezTo>
                <a:cubicBezTo>
                  <a:pt x="51" y="873"/>
                  <a:pt x="37" y="963"/>
                  <a:pt x="24" y="1042"/>
                </a:cubicBezTo>
                <a:cubicBezTo>
                  <a:pt x="11" y="1121"/>
                  <a:pt x="5" y="1216"/>
                  <a:pt x="0" y="1262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15200" y="2044800"/>
            <a:ext cx="990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y = log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x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(a &gt;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312408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 a &gt;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quando  x  tende a 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nche   y  tende a 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;               quando  x  tende a 0              y  tende a  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05440" y="1155240"/>
            <a:ext cx="2790720" cy="2616120"/>
            <a:chOff x="4105440" y="1155240"/>
            <a:chExt cx="2790720" cy="2616120"/>
          </a:xfrm>
        </p:grpSpPr>
        <p:sp>
          <p:nvSpPr>
            <p:cNvPr id="364" name=""/>
            <p:cNvSpPr/>
            <p:nvPr/>
          </p:nvSpPr>
          <p:spPr>
            <a:xfrm>
              <a:off x="4105440" y="2679480"/>
              <a:ext cx="27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31120" y="2651040"/>
              <a:ext cx="3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6160" y="124128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8760" y="2633400"/>
              <a:ext cx="30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78520" y="231768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11640" y="2649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26160" y="1155240"/>
              <a:ext cx="0" cy="26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57200" y="4025520"/>
            <a:ext cx="7886880" cy="2616120"/>
            <a:chOff x="457200" y="4025520"/>
            <a:chExt cx="7886880" cy="2616120"/>
          </a:xfrm>
        </p:grpSpPr>
        <p:grpSp>
          <p:nvGrpSpPr>
            <p:cNvPr id="372" name=""/>
            <p:cNvGrpSpPr/>
            <p:nvPr/>
          </p:nvGrpSpPr>
          <p:grpSpPr>
            <a:xfrm>
              <a:off x="457200" y="4025520"/>
              <a:ext cx="7886880" cy="2616120"/>
              <a:chOff x="457200" y="4025520"/>
              <a:chExt cx="7886880" cy="2616120"/>
            </a:xfrm>
          </p:grpSpPr>
          <p:sp>
            <p:nvSpPr>
              <p:cNvPr id="373" name=""/>
              <p:cNvSpPr/>
              <p:nvPr/>
            </p:nvSpPr>
            <p:spPr>
              <a:xfrm>
                <a:off x="457200" y="4800600"/>
                <a:ext cx="25146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e  0 &lt; a &lt; 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 quando  x  tende a  +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      y tende a -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;                      quando  x  tende a 0            y tende a +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77040" y="4851360"/>
                <a:ext cx="106704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99"/>
                    </a:solidFill>
                    <a:latin typeface="Arial"/>
                  </a:rPr>
                  <a:t>y = log</a:t>
                </a:r>
                <a:r>
                  <a:rPr b="1" lang="en-US" sz="1400" spc="-1" strike="noStrike" baseline="-25000">
                    <a:solidFill>
                      <a:srgbClr val="990099"/>
                    </a:solidFill>
                    <a:latin typeface="Arial"/>
                  </a:rPr>
                  <a:t>a</a:t>
                </a:r>
                <a:r>
                  <a:rPr b="1" lang="en-US" sz="1400" spc="-1" strike="noStrike">
                    <a:solidFill>
                      <a:srgbClr val="990099"/>
                    </a:solidFill>
                    <a:latin typeface="Arial"/>
                  </a:rPr>
                  <a:t> x</a:t>
                </a:r>
                <a:r>
                  <a:rPr b="0" lang="en-US" sz="1400" spc="-1" strike="noStrike">
                    <a:solidFill>
                      <a:srgbClr val="9900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90099"/>
                    </a:solidFill>
                    <a:latin typeface="Arial"/>
                  </a:rPr>
                  <a:t>(0 &lt; a &lt;  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4092480" y="4025520"/>
                <a:ext cx="2790720" cy="2616120"/>
                <a:chOff x="4092480" y="4025520"/>
                <a:chExt cx="2790720" cy="2616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092480" y="5549760"/>
                  <a:ext cx="277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18160" y="5521320"/>
                  <a:ext cx="36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43200" y="4111560"/>
                  <a:ext cx="48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55800" y="5503680"/>
                  <a:ext cx="303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65560" y="5187960"/>
                  <a:ext cx="269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097240" y="5519520"/>
                  <a:ext cx="183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4813200" y="4025520"/>
                  <a:ext cx="0" cy="261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952880" y="4172040"/>
                <a:ext cx="1587600" cy="2330280"/>
              </a:xfrm>
              <a:custGeom>
                <a:avLst/>
                <a:gdLst/>
                <a:ahLst/>
                <a:rect l="l" t="t" r="r" b="b"/>
                <a:pathLst>
                  <a:path w="1000" h="1468">
                    <a:moveTo>
                      <a:pt x="1000" y="1468"/>
                    </a:moveTo>
                    <a:cubicBezTo>
                      <a:pt x="966" y="1459"/>
                      <a:pt x="873" y="1441"/>
                      <a:pt x="797" y="1412"/>
                    </a:cubicBezTo>
                    <a:cubicBezTo>
                      <a:pt x="721" y="1383"/>
                      <a:pt x="621" y="1339"/>
                      <a:pt x="544" y="1292"/>
                    </a:cubicBezTo>
                    <a:cubicBezTo>
                      <a:pt x="467" y="1245"/>
                      <a:pt x="399" y="1198"/>
                      <a:pt x="336" y="1132"/>
                    </a:cubicBezTo>
                    <a:cubicBezTo>
                      <a:pt x="273" y="1066"/>
                      <a:pt x="209" y="991"/>
                      <a:pt x="164" y="896"/>
                    </a:cubicBezTo>
                    <a:cubicBezTo>
                      <a:pt x="119" y="801"/>
                      <a:pt x="88" y="674"/>
                      <a:pt x="64" y="564"/>
                    </a:cubicBezTo>
                    <a:cubicBezTo>
                      <a:pt x="40" y="454"/>
                      <a:pt x="31" y="330"/>
                      <a:pt x="20" y="236"/>
                    </a:cubicBezTo>
                    <a:cubicBezTo>
                      <a:pt x="9" y="142"/>
                      <a:pt x="4" y="49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118120" y="5295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10:40Z</dcterms:created>
  <dc:creator>piero</dc:creator>
  <dc:description/>
  <dc:language>en-US</dc:language>
  <cp:lastModifiedBy>Carmelo Ciaramella</cp:lastModifiedBy>
  <dcterms:modified xsi:type="dcterms:W3CDTF">2003-09-08T14:37:59Z</dcterms:modified>
  <cp:revision>35</cp:revision>
  <dc:subject/>
  <dc:title>Presentazione di PowerPoint</dc:title>
</cp:coreProperties>
</file>