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2E8-4577-4C83-BEFD-02337D73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266-C9FC-4F7A-A9E8-402B7BFB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007-2971-48E7-A8B4-594ADF55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07E-48D3-476C-A948-3DAB6484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5435-4696-452C-BB39-6A4E504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DF5B-B4B6-4644-8814-DF6804D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5F6-9BFA-4F0F-8081-C02A2102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7AAE-FE48-4FC2-99FB-C2FC671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709-5656-4B41-B4FC-6A4910D8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3EC-9C81-462C-94A2-132A7ED2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62FB-21DC-489D-9CC9-E962D65A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B5F-806C-485C-A53D-F7A7AF21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C47B-8E07-4F49-8510-B213ED23070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160" y="468360"/>
            <a:ext cx="8594640" cy="5840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14480" y="3284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MI CONC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SEMPI INT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EFIN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9440" y="2262240"/>
            <a:ext cx="46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MITI DI UNA FUN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4952880"/>
            <a:ext cx="2057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Prerequisiti :                  -  funzioni              -  intor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533520"/>
            <a:ext cx="8305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RIMI CONC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limite di una funzione è un concetto matematico che consente di studiare l’andamento di una funzione nel suo dominio o in particolari punti non necessariamente appartenenti ad es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1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2492280"/>
            <a:ext cx="6769440" cy="2697120"/>
            <a:chOff x="1187280" y="2492280"/>
            <a:chExt cx="6769440" cy="2697120"/>
          </a:xfrm>
        </p:grpSpPr>
        <p:sp>
          <p:nvSpPr>
            <p:cNvPr id="48" name=""/>
            <p:cNvSpPr/>
            <p:nvPr/>
          </p:nvSpPr>
          <p:spPr>
            <a:xfrm flipV="1">
              <a:off x="2482920" y="2492280"/>
              <a:ext cx="0" cy="269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87280" y="4541760"/>
              <a:ext cx="676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1116000" y="3749760"/>
            <a:ext cx="6840720" cy="1695240"/>
            <a:chOff x="1116000" y="3749760"/>
            <a:chExt cx="6840720" cy="1695240"/>
          </a:xfrm>
        </p:grpSpPr>
        <p:sp>
          <p:nvSpPr>
            <p:cNvPr id="51" name=""/>
            <p:cNvSpPr/>
            <p:nvPr/>
          </p:nvSpPr>
          <p:spPr>
            <a:xfrm>
              <a:off x="1116000" y="3749760"/>
              <a:ext cx="684072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76360" y="3860640"/>
              <a:ext cx="6264360" cy="1584360"/>
            </a:xfrm>
            <a:custGeom>
              <a:avLst/>
              <a:gdLst/>
              <a:ahLst/>
              <a:rect l="l" t="t" r="r" b="b"/>
              <a:pathLst>
                <a:path w="4188" h="1050">
                  <a:moveTo>
                    <a:pt x="0" y="324"/>
                  </a:moveTo>
                  <a:cubicBezTo>
                    <a:pt x="102" y="630"/>
                    <a:pt x="204" y="937"/>
                    <a:pt x="317" y="914"/>
                  </a:cubicBezTo>
                  <a:cubicBezTo>
                    <a:pt x="430" y="891"/>
                    <a:pt x="529" y="181"/>
                    <a:pt x="680" y="188"/>
                  </a:cubicBezTo>
                  <a:cubicBezTo>
                    <a:pt x="831" y="195"/>
                    <a:pt x="1088" y="868"/>
                    <a:pt x="1224" y="959"/>
                  </a:cubicBezTo>
                  <a:cubicBezTo>
                    <a:pt x="1360" y="1050"/>
                    <a:pt x="1420" y="831"/>
                    <a:pt x="1496" y="733"/>
                  </a:cubicBezTo>
                  <a:cubicBezTo>
                    <a:pt x="1572" y="635"/>
                    <a:pt x="1610" y="468"/>
                    <a:pt x="1678" y="370"/>
                  </a:cubicBezTo>
                  <a:cubicBezTo>
                    <a:pt x="1746" y="272"/>
                    <a:pt x="1754" y="196"/>
                    <a:pt x="1905" y="143"/>
                  </a:cubicBezTo>
                  <a:cubicBezTo>
                    <a:pt x="2056" y="90"/>
                    <a:pt x="2245" y="75"/>
                    <a:pt x="2585" y="52"/>
                  </a:cubicBezTo>
                  <a:cubicBezTo>
                    <a:pt x="2925" y="29"/>
                    <a:pt x="3704" y="14"/>
                    <a:pt x="3946" y="7"/>
                  </a:cubicBezTo>
                  <a:cubicBezTo>
                    <a:pt x="4188" y="0"/>
                    <a:pt x="4112" y="3"/>
                    <a:pt x="4037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720" y="333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EMPI INT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172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50320" y="76680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O 1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951200"/>
            <a:ext cx="32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gnando alla x i valori 1, 2, 3, 4, 5, … osserviamo che i corrispondenti valori della funzione tendono al numero 1 senza mai oltrepassar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95640" y="4581360"/>
            <a:ext cx="387360" cy="368280"/>
            <a:chOff x="3995640" y="4581360"/>
            <a:chExt cx="387360" cy="368280"/>
          </a:xfrm>
        </p:grpSpPr>
        <p:sp>
          <p:nvSpPr>
            <p:cNvPr id="58" name=""/>
            <p:cNvSpPr/>
            <p:nvPr/>
          </p:nvSpPr>
          <p:spPr>
            <a:xfrm>
              <a:off x="3995640" y="4619520"/>
              <a:ext cx="324000" cy="31428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002120" y="4581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1600" y="5013360"/>
            <a:ext cx="4171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Osservazion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ossiamo dire intuitivamente che la funzione, per valori della x ≥ 1 , ha un LIMITE che non può oltrepass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00000" y="1197000"/>
                <a:ext cx="1440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2" name=""/>
          <p:cNvGraphicFramePr/>
          <p:nvPr/>
        </p:nvGraphicFramePr>
        <p:xfrm>
          <a:off x="539640" y="3645000"/>
          <a:ext cx="3600360" cy="720720"/>
        </p:xfrm>
        <a:graphic>
          <a:graphicData uri="http://schemas.openxmlformats.org/drawingml/2006/table">
            <a:tbl>
              <a:tblPr/>
              <a:tblGrid>
                <a:gridCol w="655200"/>
                <a:gridCol w="294516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      2        3         4       5   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    0,5    0,66    0,75   0.8  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" name=""/>
          <p:cNvGrpSpPr/>
          <p:nvPr/>
        </p:nvGrpSpPr>
        <p:grpSpPr>
          <a:xfrm>
            <a:off x="5075280" y="765000"/>
            <a:ext cx="3817800" cy="4089600"/>
            <a:chOff x="5075280" y="765000"/>
            <a:chExt cx="3817800" cy="4089600"/>
          </a:xfrm>
        </p:grpSpPr>
        <p:sp>
          <p:nvSpPr>
            <p:cNvPr id="64" name=""/>
            <p:cNvSpPr/>
            <p:nvPr/>
          </p:nvSpPr>
          <p:spPr>
            <a:xfrm>
              <a:off x="8001000" y="4524120"/>
              <a:ext cx="324000" cy="31464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28000" y="44863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075280" y="3622680"/>
              <a:ext cx="3817800" cy="720720"/>
              <a:chOff x="5075280" y="3622680"/>
              <a:chExt cx="3817800" cy="720720"/>
            </a:xfrm>
          </p:grpSpPr>
          <p:sp>
            <p:nvSpPr>
              <p:cNvPr id="67" name=""/>
              <p:cNvSpPr/>
              <p:nvPr/>
            </p:nvSpPr>
            <p:spPr>
              <a:xfrm>
                <a:off x="5075280" y="3622680"/>
                <a:ext cx="3817800" cy="0"/>
              </a:xfrm>
              <a:prstGeom prst="line">
                <a:avLst/>
              </a:prstGeom>
              <a:ln cap="sq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075280" y="3978360"/>
                <a:ext cx="38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75280" y="3622680"/>
                <a:ext cx="0" cy="720720"/>
              </a:xfrm>
              <a:prstGeom prst="line">
                <a:avLst/>
              </a:prstGeom>
              <a:ln cap="sq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70440" y="3622680"/>
                <a:ext cx="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93080" y="3622680"/>
                <a:ext cx="0" cy="720720"/>
              </a:xfrm>
              <a:prstGeom prst="line">
                <a:avLst/>
              </a:prstGeom>
              <a:ln cap="sq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70440" y="3978360"/>
                <a:ext cx="31226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5   10    12,5   16,6   25   100    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75280" y="3978360"/>
                <a:ext cx="69516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f(x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770440" y="3622680"/>
                <a:ext cx="31226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1,2  1,1   1,08   1,06  1,04  1,01   ..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75280" y="3622680"/>
                <a:ext cx="69516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75280" y="4343400"/>
                <a:ext cx="3817800" cy="0"/>
              </a:xfrm>
              <a:prstGeom prst="line">
                <a:avLst/>
              </a:prstGeom>
              <a:ln cap="sq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085720" y="765000"/>
              <a:ext cx="126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ESEMPIO 2/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720" y="1966680"/>
              <a:ext cx="3382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ssegnando alla x valori prossimi a 1, la funzione tende ad assumere valori sempre più grand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5076720" y="1174680"/>
                  <a:ext cx="14400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"/>
          <p:cNvSpPr/>
          <p:nvPr/>
        </p:nvSpPr>
        <p:spPr>
          <a:xfrm>
            <a:off x="4932360" y="5013360"/>
            <a:ext cx="41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Osservazione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l valore x=1 non fa parte del dominio della fun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2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13440" y="981000"/>
            <a:ext cx="71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335772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720" y="333360"/>
            <a:ext cx="27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EMPI INTRODU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72360" y="6237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64720" y="76680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ESEMPIO 3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24280" y="4508640"/>
            <a:ext cx="387360" cy="368280"/>
            <a:chOff x="3824280" y="4508640"/>
            <a:chExt cx="387360" cy="368280"/>
          </a:xfrm>
        </p:grpSpPr>
        <p:sp>
          <p:nvSpPr>
            <p:cNvPr id="88" name=""/>
            <p:cNvSpPr/>
            <p:nvPr/>
          </p:nvSpPr>
          <p:spPr>
            <a:xfrm>
              <a:off x="3824280" y="4546440"/>
              <a:ext cx="324000" cy="313920"/>
            </a:xfrm>
            <a:prstGeom prst="octagon">
              <a:avLst>
                <a:gd name="adj" fmla="val 23231"/>
              </a:avLst>
            </a:prstGeom>
            <a:solidFill>
              <a:srgbClr val="cc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0760" y="4508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1600" y="5184720"/>
            <a:ext cx="4100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Osservazione 3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munque si scelga il numero positivo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l’intorno di 4  ] 4 –</a:t>
            </a:r>
            <a:r>
              <a:rPr b="0" i="1" lang="el-GR" sz="20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4 +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[ “determina” sempre un intorno H del punto c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0000" y="1298520"/>
                <a:ext cx="1224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539640" y="3645000"/>
          <a:ext cx="3600720" cy="720720"/>
        </p:xfrm>
        <a:graphic>
          <a:graphicData uri="http://schemas.openxmlformats.org/drawingml/2006/table">
            <a:tbl>
              <a:tblPr/>
              <a:tblGrid>
                <a:gridCol w="655920"/>
                <a:gridCol w="2944800"/>
              </a:tblGrid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  1,8     1,9      2     2,1     2,2 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... 3,24   3,61    4     4.41   4,84 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468360" y="191628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egnando alla x valori prossimi a c=2, la funzione tende ad assumere valori prossimi 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3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012000" y="549000"/>
            <a:ext cx="0" cy="41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19640" y="3429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49360"/>
            <a:ext cx="2879640" cy="2879640"/>
          </a:xfrm>
          <a:custGeom>
            <a:avLst/>
            <a:gdLst/>
            <a:ahLst/>
            <a:rect l="l" t="t" r="r" b="b"/>
            <a:pathLst>
              <a:path w="1814" h="1814">
                <a:moveTo>
                  <a:pt x="0" y="0"/>
                </a:moveTo>
                <a:cubicBezTo>
                  <a:pt x="302" y="907"/>
                  <a:pt x="605" y="1814"/>
                  <a:pt x="907" y="1814"/>
                </a:cubicBezTo>
                <a:cubicBezTo>
                  <a:pt x="1209" y="1814"/>
                  <a:pt x="1511" y="907"/>
                  <a:pt x="1814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77080" y="220500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011640" y="2205000"/>
            <a:ext cx="8650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981000"/>
            <a:ext cx="1296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981000"/>
            <a:ext cx="0" cy="2448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93080" y="1571400"/>
            <a:ext cx="0" cy="1857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2000" y="1593720"/>
            <a:ext cx="108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54520" y="14130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66600" y="795240"/>
            <a:ext cx="48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4+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28880" y="2013120"/>
            <a:ext cx="4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4-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56000" y="981000"/>
            <a:ext cx="429120" cy="576360"/>
            <a:chOff x="6156000" y="981000"/>
            <a:chExt cx="429120" cy="576360"/>
          </a:xfrm>
        </p:grpSpPr>
        <p:sp>
          <p:nvSpPr>
            <p:cNvPr id="108" name=""/>
            <p:cNvSpPr/>
            <p:nvPr/>
          </p:nvSpPr>
          <p:spPr>
            <a:xfrm>
              <a:off x="6306840" y="112536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Comic Sans MS"/>
                </a:rPr>
                <a:t>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55640" y="981000"/>
              <a:ext cx="144360" cy="576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360"/>
                <a:gd name="textAreaBottom" fmla="*/ 56160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56000" y="1614600"/>
            <a:ext cx="429120" cy="576000"/>
            <a:chOff x="6156000" y="1614600"/>
            <a:chExt cx="429120" cy="576000"/>
          </a:xfrm>
        </p:grpSpPr>
        <p:sp>
          <p:nvSpPr>
            <p:cNvPr id="111" name=""/>
            <p:cNvSpPr/>
            <p:nvPr/>
          </p:nvSpPr>
          <p:spPr>
            <a:xfrm>
              <a:off x="6306840" y="171576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600" spc="-1" strike="noStrike">
                  <a:solidFill>
                    <a:srgbClr val="000000"/>
                  </a:solidFill>
                  <a:latin typeface="Comic Sans MS"/>
                </a:rPr>
                <a:t>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155640" y="1614600"/>
              <a:ext cx="144360" cy="57600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67800" y="3427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356880" y="3612960"/>
            <a:ext cx="1575360" cy="822240"/>
            <a:chOff x="6356880" y="3612960"/>
            <a:chExt cx="1575360" cy="822240"/>
          </a:xfrm>
        </p:grpSpPr>
        <p:sp>
          <p:nvSpPr>
            <p:cNvPr id="115" name=""/>
            <p:cNvSpPr/>
            <p:nvPr/>
          </p:nvSpPr>
          <p:spPr>
            <a:xfrm>
              <a:off x="6356880" y="3792600"/>
              <a:ext cx="1575360" cy="642600"/>
            </a:xfrm>
            <a:prstGeom prst="rect">
              <a:avLst/>
            </a:prstGeom>
            <a:solidFill>
              <a:srgbClr val="ffff6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Un intorno 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el punt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7023960" y="3462840"/>
              <a:ext cx="176040" cy="476280"/>
            </a:xfrm>
            <a:custGeom>
              <a:avLst/>
              <a:gdLst>
                <a:gd name="textAreaLeft" fmla="*/ 112680 w 176040"/>
                <a:gd name="textAreaRight" fmla="*/ 176400 w 176040"/>
                <a:gd name="textAreaTop" fmla="*/ 12240 h 476280"/>
                <a:gd name="textAreaBottom" fmla="*/ 464040 h 47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51640" y="2421000"/>
            <a:ext cx="1225800" cy="792000"/>
          </a:xfrm>
          <a:prstGeom prst="wedgeRectCallout">
            <a:avLst>
              <a:gd name="adj1" fmla="val -45208"/>
              <a:gd name="adj2" fmla="val 66430"/>
            </a:avLst>
          </a:pr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sa abbiamo ottenu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4941720"/>
            <a:ext cx="3024360" cy="1151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iamo affermare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156360" y="5445000"/>
                <a:ext cx="1440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924600" y="5435640"/>
            <a:ext cx="1123920" cy="7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5480" y="3654360"/>
            <a:ext cx="71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5160" y="333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FINI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4640" y="690480"/>
            <a:ext cx="748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1  (limite finito in un punto fini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a f una funzione definita in D e c un punto di accumulazione per D.        Si dice che la funzione f, per x tendente a c, ha per LIMITE il numero </a:t>
            </a:r>
            <a:r>
              <a:rPr b="1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 e si sc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411360" y="1814400"/>
                <a:ext cx="1525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84360" y="2276640"/>
            <a:ext cx="7777080" cy="22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ando, comunque si scelga un numero positivo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si può determinare un intorno completo H di c tale che, per tutti i valori della x appartenenti ad H</a:t>
            </a:r>
            <a:r>
              <a:rPr b="0" i="1" lang="it-IT" sz="1800" spc="-1" strike="noStrike">
                <a:solidFill>
                  <a:srgbClr val="000000"/>
                </a:solidFill>
                <a:latin typeface="StarMath"/>
                <a:ea typeface="StarMath"/>
              </a:rPr>
              <a:t>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, escluso eventualmente c, risulti soddisfatta la disequ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|f(x)-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|&lt;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è le disequazio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     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 –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&lt; f(x) &lt; 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 +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4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65720" y="551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923160" y="4589280"/>
            <a:ext cx="0" cy="927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384600" y="4587480"/>
            <a:ext cx="538200" cy="1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97560" y="3660840"/>
            <a:ext cx="16462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51760" y="3660840"/>
            <a:ext cx="0" cy="18558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824960" y="4108320"/>
            <a:ext cx="0" cy="1408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63840" y="3957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57200" y="3500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19480" y="44258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2120" y="551484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4040" y="326844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0920" y="3544920"/>
            <a:ext cx="3149640" cy="2066760"/>
          </a:xfrm>
          <a:custGeom>
            <a:avLst/>
            <a:gdLst/>
            <a:ahLst/>
            <a:rect l="l" t="t" r="r" b="b"/>
            <a:pathLst>
              <a:path w="1984" h="1718">
                <a:moveTo>
                  <a:pt x="0" y="1353"/>
                </a:moveTo>
                <a:cubicBezTo>
                  <a:pt x="194" y="1535"/>
                  <a:pt x="389" y="1718"/>
                  <a:pt x="531" y="1636"/>
                </a:cubicBezTo>
                <a:cubicBezTo>
                  <a:pt x="673" y="1554"/>
                  <a:pt x="703" y="1051"/>
                  <a:pt x="851" y="859"/>
                </a:cubicBezTo>
                <a:cubicBezTo>
                  <a:pt x="999" y="667"/>
                  <a:pt x="1297" y="612"/>
                  <a:pt x="1417" y="484"/>
                </a:cubicBezTo>
                <a:cubicBezTo>
                  <a:pt x="1537" y="356"/>
                  <a:pt x="1479" y="172"/>
                  <a:pt x="1573" y="91"/>
                </a:cubicBezTo>
                <a:cubicBezTo>
                  <a:pt x="1667" y="10"/>
                  <a:pt x="1911" y="15"/>
                  <a:pt x="1984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403680" y="4116240"/>
            <a:ext cx="14065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7433280" y="5142240"/>
            <a:ext cx="174600" cy="1147680"/>
          </a:xfrm>
          <a:custGeom>
            <a:avLst/>
            <a:gdLst>
              <a:gd name="textAreaLeft" fmla="*/ 111600 w 174600"/>
              <a:gd name="textAreaRight" fmla="*/ 174960 w 174600"/>
              <a:gd name="textAreaTop" fmla="*/ 29880 h 1147680"/>
              <a:gd name="textAreaBottom" fmla="*/ 1117800 h 1147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9120" y="41958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404040" y="4346280"/>
            <a:ext cx="914400" cy="111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8440" y="4357800"/>
            <a:ext cx="0" cy="11556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9400" y="551016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66680" y="579276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12800" y="4734000"/>
            <a:ext cx="4753440" cy="1349280"/>
            <a:chOff x="712800" y="4734000"/>
            <a:chExt cx="4753440" cy="1349280"/>
          </a:xfrm>
        </p:grpSpPr>
        <p:sp>
          <p:nvSpPr>
            <p:cNvPr id="148" name=""/>
            <p:cNvSpPr/>
            <p:nvPr/>
          </p:nvSpPr>
          <p:spPr>
            <a:xfrm>
              <a:off x="830880" y="5715000"/>
              <a:ext cx="46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i legge: “limite per x che tende a c di f(x)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814320" y="5183280"/>
                  <a:ext cx="1100160" cy="54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712800" y="47340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990033"/>
                  </a:solidFill>
                  <a:latin typeface="Arial"/>
                </a:rPr>
                <a:t>Not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405480" y="3540240"/>
            <a:ext cx="71640" cy="109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05480" y="5597640"/>
            <a:ext cx="7164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943680" y="5076720"/>
            <a:ext cx="797040" cy="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640" y="476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2  (limite infinito in un punto fini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a f una funzione definita in D e c un punto di accumulazione per D.        Si dice che la funzione f, per x tendente a c, ha per LIMITE l’infinto, e si sc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355920" y="1600200"/>
                <a:ext cx="1525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c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84360" y="2030400"/>
            <a:ext cx="777708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ando, comunque si scelga un numero positivo M, si può determinare un intorno completo H di c tale che, per tutti i valori della x appartenenti ad H</a:t>
            </a:r>
            <a:r>
              <a:rPr b="0" i="1" lang="it-IT" sz="1800" spc="-1" strike="noStrike">
                <a:solidFill>
                  <a:srgbClr val="000000"/>
                </a:solidFill>
                <a:latin typeface="StarMath"/>
                <a:ea typeface="StarMath"/>
              </a:rPr>
              <a:t>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D, escluso eventualmente c, risulti soddisfatta la disequ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|f(x)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| &gt;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è le disequazio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(x) &lt; -M   f(x) &gt;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9124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5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54040" y="4546440"/>
            <a:ext cx="4334040" cy="1546200"/>
            <a:chOff x="554040" y="4546440"/>
            <a:chExt cx="4334040" cy="1546200"/>
          </a:xfrm>
        </p:grpSpPr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3335400" y="5114880"/>
                  <a:ext cx="145404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3325680" y="5616720"/>
                  <a:ext cx="156240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554040" y="4546440"/>
              <a:ext cx="2989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In particolare, se vale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f(x) &gt; M    all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f(x) &lt; -M   all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265720" y="5157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948360" y="465300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8480" y="4646520"/>
            <a:ext cx="569880" cy="6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51640" y="3489480"/>
            <a:ext cx="0" cy="28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55600" y="4869000"/>
            <a:ext cx="25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404040" y="345888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7246800" y="4929120"/>
            <a:ext cx="193680" cy="793800"/>
          </a:xfrm>
          <a:custGeom>
            <a:avLst/>
            <a:gdLst>
              <a:gd name="textAreaLeft" fmla="*/ 123840 w 193680"/>
              <a:gd name="textAreaRight" fmla="*/ 194040 w 1936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78160" y="45576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80120" y="3919680"/>
            <a:ext cx="12960" cy="12380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59880" y="509904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68320" y="53006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3920" y="3581280"/>
            <a:ext cx="1562040" cy="2268720"/>
          </a:xfrm>
          <a:custGeom>
            <a:avLst/>
            <a:gdLst/>
            <a:ahLst/>
            <a:rect l="l" t="t" r="r" b="b"/>
            <a:pathLst>
              <a:path w="810" h="1345">
                <a:moveTo>
                  <a:pt x="0" y="1296"/>
                </a:moveTo>
                <a:cubicBezTo>
                  <a:pt x="150" y="1320"/>
                  <a:pt x="300" y="1345"/>
                  <a:pt x="420" y="1248"/>
                </a:cubicBezTo>
                <a:cubicBezTo>
                  <a:pt x="540" y="1151"/>
                  <a:pt x="655" y="922"/>
                  <a:pt x="720" y="714"/>
                </a:cubicBezTo>
                <a:cubicBezTo>
                  <a:pt x="785" y="506"/>
                  <a:pt x="797" y="253"/>
                  <a:pt x="810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7702560" y="3715560"/>
            <a:ext cx="1262160" cy="2592360"/>
          </a:xfrm>
          <a:custGeom>
            <a:avLst/>
            <a:gdLst/>
            <a:ahLst/>
            <a:rect l="l" t="t" r="r" b="b"/>
            <a:pathLst>
              <a:path w="810" h="1345">
                <a:moveTo>
                  <a:pt x="0" y="1296"/>
                </a:moveTo>
                <a:cubicBezTo>
                  <a:pt x="150" y="1320"/>
                  <a:pt x="300" y="1345"/>
                  <a:pt x="420" y="1248"/>
                </a:cubicBezTo>
                <a:cubicBezTo>
                  <a:pt x="540" y="1151"/>
                  <a:pt x="655" y="922"/>
                  <a:pt x="720" y="714"/>
                </a:cubicBezTo>
                <a:cubicBezTo>
                  <a:pt x="785" y="506"/>
                  <a:pt x="797" y="253"/>
                  <a:pt x="810" y="0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400440" y="3924360"/>
            <a:ext cx="67644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34240" y="38005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40720" y="515772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01920" y="535608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72360" y="558972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219800" y="5324400"/>
            <a:ext cx="1368720" cy="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8480" y="5321160"/>
            <a:ext cx="701640" cy="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15040" y="3968640"/>
            <a:ext cx="71640" cy="1632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8880" y="419040"/>
            <a:ext cx="7488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3  (limite finito in un punto all’infini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a f una funzione definita in D illimitato.                                        Si dice che la funzione f, per x tendente all’infinito, ha per LIMITE </a:t>
            </a:r>
            <a:r>
              <a:rPr b="1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 e si sc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611440" y="1542960"/>
                <a:ext cx="1550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6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5520" y="5033880"/>
            <a:ext cx="4268880" cy="1546200"/>
            <a:chOff x="425520" y="5033880"/>
            <a:chExt cx="4268880" cy="1546200"/>
          </a:xfrm>
        </p:grpSpPr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218040" y="5602320"/>
                  <a:ext cx="1431720" cy="47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ℓ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262320" y="6104160"/>
                  <a:ext cx="1432080" cy="47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ℓ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425520" y="5033880"/>
              <a:ext cx="2989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Comic Sans MS"/>
                </a:rPr>
                <a:t>Se la dis. è verificata da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Comic Sans MS"/>
                </a:rPr>
                <a:t>x &gt; N    all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Comic Sans MS"/>
                </a:rPr>
                <a:t>x &lt; -N   all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286240" y="5403960"/>
            <a:ext cx="339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7211520" y="3963960"/>
            <a:ext cx="9720" cy="14400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18280" y="315576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1480" y="46735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ural Script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26240" y="4349880"/>
            <a:ext cx="0" cy="10508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02760" y="544356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39800" y="541656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215040" y="4349880"/>
            <a:ext cx="14112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07160" y="421956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46600" y="4710240"/>
            <a:ext cx="39607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45960" y="37321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6186240" y="3963960"/>
            <a:ext cx="10350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0200" y="1989000"/>
            <a:ext cx="7777080" cy="27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ando, comunque si scelga un numero positivo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, è sempre possibile determinare un numero N&gt;0 tale che, per tutti i valori della x tali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\x\&gt;N  ( ovvero x &lt; -N   o  x &gt; 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isulti soddisfatta la disequ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|f(x)-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|&lt;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è le disequazio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              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 –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&lt; f(x) &lt;  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l +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7120" y="3846600"/>
            <a:ext cx="3934080" cy="1950840"/>
          </a:xfrm>
          <a:custGeom>
            <a:avLst/>
            <a:gdLst/>
            <a:ahLst/>
            <a:rect l="l" t="t" r="r" b="b"/>
            <a:pathLst>
              <a:path w="2478" h="1229">
                <a:moveTo>
                  <a:pt x="2478" y="457"/>
                </a:moveTo>
                <a:cubicBezTo>
                  <a:pt x="2340" y="450"/>
                  <a:pt x="2202" y="443"/>
                  <a:pt x="2088" y="421"/>
                </a:cubicBezTo>
                <a:cubicBezTo>
                  <a:pt x="1974" y="399"/>
                  <a:pt x="1903" y="393"/>
                  <a:pt x="1794" y="325"/>
                </a:cubicBezTo>
                <a:cubicBezTo>
                  <a:pt x="1685" y="257"/>
                  <a:pt x="1524" y="26"/>
                  <a:pt x="1434" y="13"/>
                </a:cubicBezTo>
                <a:cubicBezTo>
                  <a:pt x="1344" y="0"/>
                  <a:pt x="1321" y="59"/>
                  <a:pt x="1254" y="247"/>
                </a:cubicBezTo>
                <a:cubicBezTo>
                  <a:pt x="1187" y="435"/>
                  <a:pt x="1110" y="1053"/>
                  <a:pt x="1032" y="1141"/>
                </a:cubicBezTo>
                <a:cubicBezTo>
                  <a:pt x="954" y="1229"/>
                  <a:pt x="899" y="863"/>
                  <a:pt x="786" y="775"/>
                </a:cubicBezTo>
                <a:cubicBezTo>
                  <a:pt x="673" y="687"/>
                  <a:pt x="485" y="645"/>
                  <a:pt x="354" y="613"/>
                </a:cubicBezTo>
                <a:cubicBezTo>
                  <a:pt x="223" y="581"/>
                  <a:pt x="111" y="582"/>
                  <a:pt x="0" y="583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84480" y="54054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Mural Script"/>
              </a:rPr>
              <a:t>l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l-GR" sz="1600" spc="-1" strike="noStrike">
                <a:solidFill>
                  <a:srgbClr val="000000"/>
                </a:solidFill>
                <a:latin typeface="Comic Sans MS"/>
              </a:rPr>
              <a:t>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13720" y="542304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7000"/>
                            </p:stCondLst>
                            <p:childTnLst>
                              <p:par>
                                <p:cTn id="3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167520" y="3357720"/>
            <a:ext cx="69840" cy="795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67520" y="5229360"/>
            <a:ext cx="7128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27680" y="4643280"/>
            <a:ext cx="1805040" cy="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4640" y="476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4  (limite infinito in un punto all’infini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ia f una funzione definita in D illimitato.                                        Si dice che la funzione f, per x tendente a </a:t>
            </a:r>
            <a:r>
              <a:rPr b="1" i="1" lang="en-US" sz="1800" spc="-1" strike="noStrike">
                <a:solidFill>
                  <a:srgbClr val="000000"/>
                </a:solidFill>
                <a:latin typeface="StarMath"/>
                <a:ea typeface="StarMath"/>
              </a:rPr>
              <a:t>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, ha per LIMITE l’infinto, e si sc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62240" y="1600200"/>
                <a:ext cx="1625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84360" y="2133720"/>
            <a:ext cx="777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ando, comunque si scelga M &gt; 0, si può determinare N &gt; 0 tale che, per tutti i valori della x tali 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\x\&gt;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risulti soddisfatta la disequ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|f(x)</a:t>
            </a:r>
            <a:r>
              <a:rPr b="1" i="1" lang="it-IT" sz="2000" spc="-1" strike="noStrike">
                <a:solidFill>
                  <a:srgbClr val="000000"/>
                </a:solidFill>
                <a:latin typeface="Mural Script"/>
              </a:rPr>
              <a:t>| &gt;</a:t>
            </a: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è le disequazion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f(x) &lt; -M   f(x) &gt;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4526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7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21320" y="4724280"/>
            <a:ext cx="40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713280" y="4149720"/>
            <a:ext cx="19080" cy="5745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37280" y="4149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68960" y="3295440"/>
            <a:ext cx="0" cy="258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5640" y="40053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315200" y="4797360"/>
            <a:ext cx="2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07800" y="4748040"/>
            <a:ext cx="3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99160" y="36450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380360" y="3789000"/>
            <a:ext cx="0" cy="93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137280" y="3789360"/>
            <a:ext cx="122400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67200" y="5084640"/>
            <a:ext cx="4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9000" y="4724280"/>
            <a:ext cx="40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2720" y="2997360"/>
            <a:ext cx="2592360" cy="3311280"/>
          </a:xfrm>
          <a:custGeom>
            <a:avLst/>
            <a:gdLst/>
            <a:ahLst/>
            <a:rect l="l" t="t" r="r" b="b"/>
            <a:pathLst>
              <a:path w="1633" h="2086">
                <a:moveTo>
                  <a:pt x="1633" y="0"/>
                </a:moveTo>
                <a:cubicBezTo>
                  <a:pt x="1614" y="94"/>
                  <a:pt x="1595" y="189"/>
                  <a:pt x="1542" y="272"/>
                </a:cubicBezTo>
                <a:cubicBezTo>
                  <a:pt x="1489" y="355"/>
                  <a:pt x="1421" y="423"/>
                  <a:pt x="1315" y="499"/>
                </a:cubicBezTo>
                <a:cubicBezTo>
                  <a:pt x="1209" y="575"/>
                  <a:pt x="1043" y="643"/>
                  <a:pt x="907" y="726"/>
                </a:cubicBezTo>
                <a:cubicBezTo>
                  <a:pt x="771" y="809"/>
                  <a:pt x="650" y="771"/>
                  <a:pt x="499" y="998"/>
                </a:cubicBezTo>
                <a:cubicBezTo>
                  <a:pt x="348" y="1225"/>
                  <a:pt x="174" y="1655"/>
                  <a:pt x="0" y="2086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8480" y="4643280"/>
            <a:ext cx="1006200" cy="8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74640" y="476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ff"/>
                </a:solidFill>
                <a:latin typeface="Arial"/>
              </a:rPr>
              <a:t>Definizione 5  (limite infinito in un punto all’infinito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elle condizioni della precedente definizione, possiamo considerare i seguenti casi particola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6381720"/>
            <a:ext cx="171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LIMITI DI FUNZIONI   8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46960" y="5302080"/>
            <a:ext cx="19699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8480" y="5302080"/>
            <a:ext cx="19684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08200" y="5302080"/>
            <a:ext cx="19702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&lt; -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8280" y="5302080"/>
            <a:ext cx="19699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lt; -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46960" y="4365720"/>
            <a:ext cx="1969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8480" y="4365720"/>
            <a:ext cx="19684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08200" y="4365720"/>
            <a:ext cx="1970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&gt;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38280" y="4365720"/>
            <a:ext cx="1969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lt; -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46960" y="3357720"/>
            <a:ext cx="196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8480" y="3357720"/>
            <a:ext cx="1968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08200" y="3357720"/>
            <a:ext cx="1970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&lt; -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8280" y="3357720"/>
            <a:ext cx="196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gt;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46960" y="2413080"/>
            <a:ext cx="1969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8480" y="2413080"/>
            <a:ext cx="19684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08200" y="2413080"/>
            <a:ext cx="1970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&gt;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38280" y="2413080"/>
            <a:ext cx="1969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ts val="59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&gt;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46960" y="1700280"/>
            <a:ext cx="196992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8480" y="1700280"/>
            <a:ext cx="196848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08200" y="1700280"/>
            <a:ext cx="197028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u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8280" y="1700280"/>
            <a:ext cx="1969920" cy="712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per o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8280" y="1700280"/>
            <a:ext cx="787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38280" y="6154560"/>
            <a:ext cx="7878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8280" y="1700280"/>
            <a:ext cx="0" cy="44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08200" y="170028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8480" y="170028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46960" y="1700280"/>
            <a:ext cx="0" cy="445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516880" y="1700280"/>
            <a:ext cx="0" cy="4454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8280" y="2413080"/>
            <a:ext cx="787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8280" y="3357720"/>
            <a:ext cx="787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8280" y="4365720"/>
            <a:ext cx="787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8280" y="5302080"/>
            <a:ext cx="787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643280" y="2765520"/>
                <a:ext cx="179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4643280" y="3774960"/>
                <a:ext cx="179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643280" y="4711680"/>
                <a:ext cx="179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643280" y="5646600"/>
                <a:ext cx="17956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7" name=""/>
          <p:cNvGrpSpPr/>
          <p:nvPr/>
        </p:nvGrpSpPr>
        <p:grpSpPr>
          <a:xfrm>
            <a:off x="6962760" y="2494080"/>
            <a:ext cx="936720" cy="801360"/>
            <a:chOff x="6962760" y="2494080"/>
            <a:chExt cx="936720" cy="801360"/>
          </a:xfrm>
        </p:grpSpPr>
        <p:sp>
          <p:nvSpPr>
            <p:cNvPr id="268" name=""/>
            <p:cNvSpPr/>
            <p:nvPr/>
          </p:nvSpPr>
          <p:spPr>
            <a:xfrm>
              <a:off x="6962760" y="318456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180200" y="2494080"/>
              <a:ext cx="0" cy="8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62760" y="2573280"/>
              <a:ext cx="884160" cy="534960"/>
            </a:xfrm>
            <a:custGeom>
              <a:avLst/>
              <a:gdLst/>
              <a:ahLst/>
              <a:rect l="l" t="t" r="r" b="b"/>
              <a:pathLst>
                <a:path w="1950" h="1089">
                  <a:moveTo>
                    <a:pt x="0" y="1089"/>
                  </a:moveTo>
                  <a:cubicBezTo>
                    <a:pt x="211" y="1089"/>
                    <a:pt x="423" y="1089"/>
                    <a:pt x="680" y="998"/>
                  </a:cubicBezTo>
                  <a:cubicBezTo>
                    <a:pt x="937" y="907"/>
                    <a:pt x="1330" y="711"/>
                    <a:pt x="1542" y="545"/>
                  </a:cubicBezTo>
                  <a:cubicBezTo>
                    <a:pt x="1754" y="379"/>
                    <a:pt x="1852" y="189"/>
                    <a:pt x="1950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62760" y="3417840"/>
            <a:ext cx="954000" cy="947520"/>
            <a:chOff x="6962760" y="3417840"/>
            <a:chExt cx="954000" cy="947520"/>
          </a:xfrm>
        </p:grpSpPr>
        <p:sp>
          <p:nvSpPr>
            <p:cNvPr id="272" name=""/>
            <p:cNvSpPr/>
            <p:nvPr/>
          </p:nvSpPr>
          <p:spPr>
            <a:xfrm>
              <a:off x="6980400" y="410832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197840" y="3417840"/>
              <a:ext cx="0" cy="8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962760" y="3682800"/>
              <a:ext cx="792360" cy="682560"/>
            </a:xfrm>
            <a:custGeom>
              <a:avLst/>
              <a:gdLst/>
              <a:ahLst/>
              <a:rect l="l" t="t" r="r" b="b"/>
              <a:pathLst>
                <a:path w="499" h="430">
                  <a:moveTo>
                    <a:pt x="0" y="22"/>
                  </a:moveTo>
                  <a:cubicBezTo>
                    <a:pt x="94" y="11"/>
                    <a:pt x="189" y="0"/>
                    <a:pt x="272" y="68"/>
                  </a:cubicBezTo>
                  <a:cubicBezTo>
                    <a:pt x="355" y="136"/>
                    <a:pt x="427" y="283"/>
                    <a:pt x="499" y="43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980400" y="4500720"/>
            <a:ext cx="936360" cy="801360"/>
            <a:chOff x="6980400" y="4500720"/>
            <a:chExt cx="936360" cy="801360"/>
          </a:xfrm>
        </p:grpSpPr>
        <p:sp>
          <p:nvSpPr>
            <p:cNvPr id="276" name=""/>
            <p:cNvSpPr/>
            <p:nvPr/>
          </p:nvSpPr>
          <p:spPr>
            <a:xfrm>
              <a:off x="6980400" y="50781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466040" y="4500720"/>
              <a:ext cx="0" cy="80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034400" y="4582800"/>
              <a:ext cx="720720" cy="647280"/>
            </a:xfrm>
            <a:custGeom>
              <a:avLst/>
              <a:gdLst/>
              <a:ahLst/>
              <a:rect l="l" t="t" r="r" b="b"/>
              <a:pathLst>
                <a:path w="454" h="408">
                  <a:moveTo>
                    <a:pt x="454" y="408"/>
                  </a:moveTo>
                  <a:cubicBezTo>
                    <a:pt x="446" y="328"/>
                    <a:pt x="439" y="249"/>
                    <a:pt x="363" y="181"/>
                  </a:cubicBezTo>
                  <a:cubicBezTo>
                    <a:pt x="287" y="113"/>
                    <a:pt x="143" y="56"/>
                    <a:pt x="0" y="0"/>
                  </a:cubicBez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962760" y="5373720"/>
            <a:ext cx="936360" cy="801360"/>
            <a:chOff x="6962760" y="5373720"/>
            <a:chExt cx="936360" cy="801360"/>
          </a:xfrm>
        </p:grpSpPr>
        <p:sp>
          <p:nvSpPr>
            <p:cNvPr id="280" name=""/>
            <p:cNvSpPr/>
            <p:nvPr/>
          </p:nvSpPr>
          <p:spPr>
            <a:xfrm flipV="1">
              <a:off x="7485120" y="5373720"/>
              <a:ext cx="0" cy="67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6962760" y="5564880"/>
              <a:ext cx="936360" cy="610200"/>
              <a:chOff x="6962760" y="5564880"/>
              <a:chExt cx="936360" cy="610200"/>
            </a:xfrm>
          </p:grpSpPr>
          <p:sp>
            <p:nvSpPr>
              <p:cNvPr id="282" name=""/>
              <p:cNvSpPr/>
              <p:nvPr/>
            </p:nvSpPr>
            <p:spPr>
              <a:xfrm>
                <a:off x="6962760" y="5747760"/>
                <a:ext cx="93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962760" y="5564880"/>
                <a:ext cx="718920" cy="610200"/>
              </a:xfrm>
              <a:custGeom>
                <a:avLst/>
                <a:gdLst/>
                <a:ahLst/>
                <a:rect l="l" t="t" r="r" b="b"/>
                <a:pathLst>
                  <a:path w="453" h="454">
                    <a:moveTo>
                      <a:pt x="453" y="0"/>
                    </a:moveTo>
                    <a:cubicBezTo>
                      <a:pt x="411" y="30"/>
                      <a:pt x="370" y="61"/>
                      <a:pt x="317" y="91"/>
                    </a:cubicBezTo>
                    <a:cubicBezTo>
                      <a:pt x="264" y="121"/>
                      <a:pt x="189" y="120"/>
                      <a:pt x="136" y="181"/>
                    </a:cubicBezTo>
                    <a:cubicBezTo>
                      <a:pt x="83" y="242"/>
                      <a:pt x="41" y="348"/>
                      <a:pt x="0" y="454"/>
                    </a:cubicBezTo>
                  </a:path>
                </a:pathLst>
              </a:custGeom>
              <a:noFill/>
              <a:ln w="93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15:40:07Z</dcterms:created>
  <dc:creator>Carmelo Ciaramella</dc:creator>
  <dc:description/>
  <dc:language>en-US</dc:language>
  <cp:lastModifiedBy>Carmelo Ciaramella</cp:lastModifiedBy>
  <dcterms:modified xsi:type="dcterms:W3CDTF">2005-09-28T12:44:52Z</dcterms:modified>
  <cp:revision>100</cp:revision>
  <dc:subject/>
  <dc:title>Diapositiva 1</dc:title>
</cp:coreProperties>
</file>