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6082-F555-49BB-A564-70FD268D6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27E5-1064-4658-B898-2B85F40A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53E8-3B47-4787-AF77-8B06775ED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B442-96ED-432B-B241-8756015BB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8BD2-073C-4528-AEFA-391E2B0D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F9C4-5939-4419-81DB-9D11C3C2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CCC6-B21A-4563-852D-EC52D256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855A-4520-443B-9C63-80B6DC18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D7E7-08A5-47CC-9A27-E6EE564B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E7EE-10F5-44EC-A3A0-03240669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D96D-B9C9-461E-B0D1-5E299C4E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7982-D558-4078-B4D8-EB1118E3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5BA7-E58A-49AE-8E6B-519ADEE3F5C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8440" y="476280"/>
            <a:ext cx="8594640" cy="58402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14480" y="3521160"/>
            <a:ext cx="53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EOR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OPER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FORME INDE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98520" y="2262240"/>
            <a:ext cx="43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EOREMI E OPERA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UI LIMI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43600" y="4952880"/>
            <a:ext cx="2589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erequisiti :                   -  limiti di una fun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3600" y="33336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EOR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4640" y="69048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Teorema 1  (dell’unicità del limit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Se una funzione ammette un limite, in un punto o all’infinito, tale limite è u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145260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72200" y="6381720"/>
            <a:ext cx="171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LIMITI DI FUNZIONI   1/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65720" y="551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7093080" y="4436640"/>
            <a:ext cx="0" cy="10796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6384600" y="4437000"/>
            <a:ext cx="7081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8480" y="3660840"/>
            <a:ext cx="16653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051760" y="3660840"/>
            <a:ext cx="0" cy="1855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7824960" y="4108320"/>
            <a:ext cx="0" cy="1408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63840" y="37893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ural Script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92120" y="5514840"/>
            <a:ext cx="25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6404040" y="3268440"/>
            <a:ext cx="0" cy="258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60920" y="3544920"/>
            <a:ext cx="3149640" cy="2066760"/>
          </a:xfrm>
          <a:custGeom>
            <a:avLst/>
            <a:gdLst/>
            <a:ahLst/>
            <a:rect l="l" t="t" r="r" b="b"/>
            <a:pathLst>
              <a:path w="1984" h="1718">
                <a:moveTo>
                  <a:pt x="0" y="1353"/>
                </a:moveTo>
                <a:cubicBezTo>
                  <a:pt x="194" y="1535"/>
                  <a:pt x="389" y="1718"/>
                  <a:pt x="531" y="1636"/>
                </a:cubicBezTo>
                <a:cubicBezTo>
                  <a:pt x="673" y="1554"/>
                  <a:pt x="703" y="1051"/>
                  <a:pt x="851" y="859"/>
                </a:cubicBezTo>
                <a:cubicBezTo>
                  <a:pt x="999" y="667"/>
                  <a:pt x="1297" y="612"/>
                  <a:pt x="1417" y="484"/>
                </a:cubicBezTo>
                <a:cubicBezTo>
                  <a:pt x="1537" y="356"/>
                  <a:pt x="1479" y="172"/>
                  <a:pt x="1573" y="91"/>
                </a:cubicBezTo>
                <a:cubicBezTo>
                  <a:pt x="1667" y="10"/>
                  <a:pt x="1911" y="15"/>
                  <a:pt x="1984" y="0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6403680" y="4116240"/>
            <a:ext cx="140652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6200000">
            <a:off x="7489080" y="5264640"/>
            <a:ext cx="142920" cy="934920"/>
          </a:xfrm>
          <a:custGeom>
            <a:avLst/>
            <a:gdLst>
              <a:gd name="textAreaLeft" fmla="*/ 91440 w 142920"/>
              <a:gd name="textAreaRight" fmla="*/ 143280 w 14292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66680" y="5792760"/>
            <a:ext cx="3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4076640"/>
            <a:ext cx="2995560" cy="17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990033"/>
                </a:solidFill>
                <a:latin typeface="Arial"/>
              </a:rPr>
              <a:t>Osservazion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Il teorema vale anche 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c =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±</a:t>
            </a:r>
            <a:r>
              <a:rPr b="1" i="1" lang="en-US" sz="1800" spc="-1" strike="noStrike">
                <a:solidFill>
                  <a:srgbClr val="000000"/>
                </a:solidFill>
                <a:latin typeface="StarMath"/>
                <a:ea typeface="StarMath"/>
              </a:rPr>
              <a:t>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    </a:t>
            </a:r>
            <a:r>
              <a:rPr b="0" lang="it-IT" sz="2400" spc="-1" strike="noStrike">
                <a:solidFill>
                  <a:srgbClr val="000000"/>
                </a:solidFill>
                <a:latin typeface="Mural Script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±</a:t>
            </a:r>
            <a:r>
              <a:rPr b="1" i="1" lang="en-US" sz="1800" spc="-1" strike="noStrike">
                <a:solidFill>
                  <a:srgbClr val="000000"/>
                </a:solidFill>
                <a:latin typeface="StarMath"/>
                <a:ea typeface="StarMath"/>
              </a:rPr>
              <a:t>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2008080"/>
            <a:ext cx="7488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Teorema 2  (della permanenza del segno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Quando il limite di una funzione in un punto c è un numero </a:t>
            </a:r>
            <a:r>
              <a:rPr b="1" i="1" lang="en-US" sz="2400" spc="-1" strike="noStrike">
                <a:solidFill>
                  <a:srgbClr val="000000"/>
                </a:solidFill>
                <a:latin typeface="Mural Script"/>
              </a:rPr>
              <a:t>l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≠0,  esiste un intorno H di c in cui la funzione assume lo stesso segno del lim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5530680"/>
            <a:ext cx="26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56120" y="4149720"/>
            <a:ext cx="5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(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7451640" y="4294080"/>
            <a:ext cx="12960" cy="122256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6372360" y="4292640"/>
            <a:ext cx="1079280" cy="144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523880" y="145260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6381720"/>
            <a:ext cx="171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LIMITI DI FUNZIONI   2/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4640" y="690480"/>
            <a:ext cx="748836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66ff"/>
                </a:solidFill>
                <a:latin typeface="Arial"/>
              </a:rPr>
              <a:t>Teorema 3  (del confronto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Se f(x), g(x), h(x) sono tre funzioni  definite in uno stesso intorno H del punto c e risul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f(x) ≤ g(x) ≤ h(x)  per ogni x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є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265400" y="2158920"/>
                <a:ext cx="28018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900000" y="2793960"/>
            <a:ext cx="417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allora risulta anch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311120" y="3213000"/>
                <a:ext cx="16052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826920" y="4405320"/>
            <a:ext cx="2995920" cy="17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990033"/>
                </a:solidFill>
                <a:latin typeface="Arial"/>
              </a:rPr>
              <a:t>Osservazion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Il teorema vale anche 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c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1" i="1" lang="en-US" sz="1800" spc="-1" strike="noStrike">
                <a:solidFill>
                  <a:srgbClr val="000000"/>
                </a:solidFill>
                <a:latin typeface="StarMath"/>
                <a:ea typeface="StarMath"/>
              </a:rPr>
              <a:t>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i="1" lang="it-IT" sz="2400" spc="-1" strike="noStrike">
                <a:solidFill>
                  <a:srgbClr val="000000"/>
                </a:solidFill>
                <a:latin typeface="Mural Script"/>
              </a:rPr>
              <a:t>l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1" i="1" lang="en-US" sz="1800" spc="-1" strike="noStrike">
                <a:solidFill>
                  <a:srgbClr val="000000"/>
                </a:solidFill>
                <a:latin typeface="StarMath"/>
                <a:ea typeface="StarMath"/>
              </a:rPr>
              <a:t>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65720" y="495612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6404040" y="2707920"/>
            <a:ext cx="0" cy="258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64000" y="3384720"/>
            <a:ext cx="2592720" cy="863280"/>
          </a:xfrm>
          <a:custGeom>
            <a:avLst/>
            <a:gdLst/>
            <a:ahLst/>
            <a:rect l="l" t="t" r="r" b="b"/>
            <a:pathLst>
              <a:path w="1633" h="544">
                <a:moveTo>
                  <a:pt x="0" y="544"/>
                </a:moveTo>
                <a:cubicBezTo>
                  <a:pt x="68" y="453"/>
                  <a:pt x="136" y="363"/>
                  <a:pt x="408" y="272"/>
                </a:cubicBezTo>
                <a:cubicBezTo>
                  <a:pt x="680" y="181"/>
                  <a:pt x="1156" y="90"/>
                  <a:pt x="1633" y="0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13560" y="3384720"/>
            <a:ext cx="2243160" cy="1512720"/>
          </a:xfrm>
          <a:custGeom>
            <a:avLst/>
            <a:gdLst/>
            <a:ahLst/>
            <a:rect l="l" t="t" r="r" b="b"/>
            <a:pathLst>
              <a:path w="1413" h="953">
                <a:moveTo>
                  <a:pt x="7" y="953"/>
                </a:moveTo>
                <a:cubicBezTo>
                  <a:pt x="3" y="828"/>
                  <a:pt x="0" y="703"/>
                  <a:pt x="234" y="544"/>
                </a:cubicBezTo>
                <a:cubicBezTo>
                  <a:pt x="468" y="385"/>
                  <a:pt x="940" y="192"/>
                  <a:pt x="1413" y="0"/>
                </a:cubicBezTo>
              </a:path>
            </a:pathLst>
          </a:custGeom>
          <a:noFill/>
          <a:ln w="1908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00720" y="3384720"/>
            <a:ext cx="1656000" cy="1860480"/>
          </a:xfrm>
          <a:custGeom>
            <a:avLst/>
            <a:gdLst/>
            <a:ahLst/>
            <a:rect l="l" t="t" r="r" b="b"/>
            <a:pathLst>
              <a:path w="1043" h="1172">
                <a:moveTo>
                  <a:pt x="0" y="1043"/>
                </a:moveTo>
                <a:cubicBezTo>
                  <a:pt x="162" y="1107"/>
                  <a:pt x="325" y="1172"/>
                  <a:pt x="499" y="998"/>
                </a:cubicBezTo>
                <a:cubicBezTo>
                  <a:pt x="673" y="824"/>
                  <a:pt x="858" y="412"/>
                  <a:pt x="1043" y="0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13080" y="314964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ural Script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842960" y="4954680"/>
            <a:ext cx="25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11840" y="4653000"/>
            <a:ext cx="5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(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65720" y="365904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(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40360" y="438156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(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956720" y="3371760"/>
            <a:ext cx="0" cy="158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372000" y="3386160"/>
            <a:ext cx="158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500"/>
                            </p:stCondLst>
                            <p:childTnLst>
                              <p:par>
                                <p:cTn id="1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172200" y="6381720"/>
            <a:ext cx="171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LIMITI DI FUNZIONI   3/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96760" y="333360"/>
            <a:ext cx="36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PERAZIONI SUI LIMITI FIN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073400" y="2541600"/>
                <a:ext cx="70344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692360" y="2448000"/>
                <a:ext cx="11001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1" name=""/>
          <p:cNvGraphicFramePr/>
          <p:nvPr/>
        </p:nvGraphicFramePr>
        <p:xfrm>
          <a:off x="971640" y="1555920"/>
          <a:ext cx="7137360" cy="4681440"/>
        </p:xfrm>
        <a:graphic>
          <a:graphicData uri="http://schemas.openxmlformats.org/drawingml/2006/table">
            <a:tbl>
              <a:tblPr/>
              <a:tblGrid>
                <a:gridCol w="2379600"/>
                <a:gridCol w="2378160"/>
                <a:gridCol w="2379600"/>
              </a:tblGrid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940360" y="2482920"/>
                <a:ext cx="16621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851280" y="1700280"/>
                <a:ext cx="11476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692360" y="1700280"/>
                <a:ext cx="11001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942160" y="1735200"/>
                <a:ext cx="19429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±</m:t>
                    </m:r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±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108320" y="3276720"/>
                <a:ext cx="63180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692360" y="3182760"/>
                <a:ext cx="11001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5940360" y="3089160"/>
                <a:ext cx="11937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c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ℓ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108320" y="4124160"/>
                <a:ext cx="63180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692360" y="4032360"/>
                <a:ext cx="110016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918040" y="3938760"/>
                <a:ext cx="121608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c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851280" y="4751280"/>
                <a:ext cx="11476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692360" y="4751280"/>
                <a:ext cx="11001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940360" y="4786200"/>
                <a:ext cx="17096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⋅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639960" y="5559480"/>
                <a:ext cx="15703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692360" y="5559480"/>
                <a:ext cx="11001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940360" y="5465880"/>
                <a:ext cx="12654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c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ℓ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72200" y="6381720"/>
            <a:ext cx="171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LIMITI DI FUNZIONI   4/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15120" y="333360"/>
            <a:ext cx="390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PERAZIONI SUI LIMITI INFIN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OM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576440" y="2448000"/>
                <a:ext cx="13334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5729400" y="4583160"/>
            <a:ext cx="2379600" cy="752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 indetermin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51240" y="4583160"/>
            <a:ext cx="2378160" cy="752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71640" y="4583160"/>
            <a:ext cx="2379600" cy="752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29400" y="3825720"/>
            <a:ext cx="2379600" cy="757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 indetermin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51240" y="3825720"/>
            <a:ext cx="2378160" cy="757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71640" y="3825720"/>
            <a:ext cx="2379600" cy="757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29400" y="3067200"/>
            <a:ext cx="237960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51240" y="3067200"/>
            <a:ext cx="237816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71640" y="3067200"/>
            <a:ext cx="237960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729400" y="2314440"/>
            <a:ext cx="237960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51240" y="2314440"/>
            <a:ext cx="237816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71640" y="2314440"/>
            <a:ext cx="237960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29400" y="1557360"/>
            <a:ext cx="23796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51240" y="1557360"/>
            <a:ext cx="237816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71640" y="1557360"/>
            <a:ext cx="23796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71640" y="1557360"/>
            <a:ext cx="71373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71640" y="2314440"/>
            <a:ext cx="713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71640" y="3067200"/>
            <a:ext cx="713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3825720"/>
            <a:ext cx="713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1640" y="4583160"/>
            <a:ext cx="713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5335560"/>
            <a:ext cx="71373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71640" y="1557360"/>
            <a:ext cx="0" cy="3778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351240" y="1557360"/>
            <a:ext cx="0" cy="377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29400" y="1557360"/>
            <a:ext cx="0" cy="377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109000" y="1557360"/>
            <a:ext cx="0" cy="3778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5892840" y="2482920"/>
                <a:ext cx="17571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3780000" y="1700280"/>
                <a:ext cx="11476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576440" y="1700280"/>
                <a:ext cx="13334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5940360" y="1735200"/>
                <a:ext cx="17557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770280" y="2421000"/>
                <a:ext cx="13114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593720" y="3240000"/>
                <a:ext cx="13338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910120" y="3274920"/>
                <a:ext cx="17575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787920" y="3213000"/>
                <a:ext cx="13111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619280" y="3960720"/>
                <a:ext cx="13334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780000" y="3933720"/>
                <a:ext cx="13111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619280" y="4751280"/>
                <a:ext cx="13334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780000" y="4724280"/>
                <a:ext cx="13111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172200" y="6381720"/>
            <a:ext cx="171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LIMITI DI FUNZIONI   5/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15120" y="333360"/>
            <a:ext cx="390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PERAZIONI SUI LIMITI INFIN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RODO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576440" y="2448000"/>
                <a:ext cx="13334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5729400" y="4583160"/>
            <a:ext cx="23796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351240" y="4583160"/>
            <a:ext cx="237816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71640" y="4583160"/>
            <a:ext cx="23796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29400" y="3825720"/>
            <a:ext cx="237960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51240" y="3825720"/>
            <a:ext cx="237816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71640" y="3825720"/>
            <a:ext cx="237960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29400" y="3067200"/>
            <a:ext cx="2379600" cy="75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 indetermin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1240" y="3067200"/>
            <a:ext cx="2378160" cy="75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71640" y="3067200"/>
            <a:ext cx="2379600" cy="75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29400" y="2314440"/>
            <a:ext cx="237960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51240" y="2314440"/>
            <a:ext cx="237816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68400" y="2314440"/>
            <a:ext cx="237960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29400" y="1557360"/>
            <a:ext cx="23796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351240" y="1557360"/>
            <a:ext cx="237816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71640" y="1557360"/>
            <a:ext cx="23796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71640" y="1557360"/>
            <a:ext cx="71373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71640" y="2314440"/>
            <a:ext cx="713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71640" y="3067200"/>
            <a:ext cx="713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71640" y="3825720"/>
            <a:ext cx="713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71640" y="4583160"/>
            <a:ext cx="713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71640" y="6237360"/>
            <a:ext cx="71373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968040" y="1557360"/>
            <a:ext cx="3240" cy="46800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351240" y="1557360"/>
            <a:ext cx="0" cy="468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29400" y="1557360"/>
            <a:ext cx="0" cy="468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109000" y="1557360"/>
            <a:ext cx="0" cy="46800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938920" y="2482920"/>
                <a:ext cx="16635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∓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570120" y="1700280"/>
                <a:ext cx="15685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576440" y="1700280"/>
                <a:ext cx="13334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999040" y="1735200"/>
                <a:ext cx="16383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641760" y="2421000"/>
                <a:ext cx="15685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593720" y="3240000"/>
                <a:ext cx="13338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905280" y="3213000"/>
                <a:ext cx="10764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619280" y="3960720"/>
                <a:ext cx="13334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780000" y="3933720"/>
                <a:ext cx="13111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619280" y="4751280"/>
                <a:ext cx="13334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780000" y="4724280"/>
                <a:ext cx="13111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5951520" y="3994200"/>
                <a:ext cx="16416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951520" y="4786200"/>
                <a:ext cx="16416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5796000" y="5484960"/>
            <a:ext cx="23796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351240" y="5445000"/>
            <a:ext cx="237816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71640" y="5413320"/>
            <a:ext cx="23796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619280" y="5581800"/>
                <a:ext cx="133344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780000" y="5554800"/>
                <a:ext cx="131112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5951520" y="5616720"/>
                <a:ext cx="164160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971640" y="5373720"/>
            <a:ext cx="713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971640" y="5373720"/>
            <a:ext cx="2379600" cy="863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51240" y="5373720"/>
            <a:ext cx="2378160" cy="863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29400" y="5373720"/>
            <a:ext cx="2379600" cy="863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 indetermin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68400" y="2314440"/>
            <a:ext cx="237960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72200" y="6381720"/>
            <a:ext cx="171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LIMITI DI FUNZIONI   6/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15120" y="333360"/>
            <a:ext cx="390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PERAZIONI SUI LIMITI INFIN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QUOZ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693800" y="2448000"/>
                <a:ext cx="10987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5729400" y="4583160"/>
            <a:ext cx="23796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351240" y="4583160"/>
            <a:ext cx="237816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71640" y="4583160"/>
            <a:ext cx="23796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729400" y="3825720"/>
            <a:ext cx="237960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51240" y="3825720"/>
            <a:ext cx="237816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71640" y="3825720"/>
            <a:ext cx="237960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729400" y="3067200"/>
            <a:ext cx="2379600" cy="75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 indetermin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51240" y="3067200"/>
            <a:ext cx="2378160" cy="75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3067200"/>
            <a:ext cx="2379600" cy="75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729400" y="2314440"/>
            <a:ext cx="237960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51240" y="2314440"/>
            <a:ext cx="237816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29400" y="1557360"/>
            <a:ext cx="23796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351240" y="1557360"/>
            <a:ext cx="237816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71640" y="1557360"/>
            <a:ext cx="23796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71640" y="1557360"/>
            <a:ext cx="71373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71640" y="2314440"/>
            <a:ext cx="713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71640" y="3067200"/>
            <a:ext cx="713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71640" y="3825720"/>
            <a:ext cx="713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71640" y="4583160"/>
            <a:ext cx="713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71640" y="6237360"/>
            <a:ext cx="71373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968040" y="1557360"/>
            <a:ext cx="3240" cy="46800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351240" y="1557360"/>
            <a:ext cx="0" cy="468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729400" y="1557360"/>
            <a:ext cx="0" cy="468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109000" y="1557360"/>
            <a:ext cx="0" cy="46800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195960" y="2276640"/>
                <a:ext cx="114768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c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576440" y="1700280"/>
                <a:ext cx="13334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6243480" y="1557360"/>
                <a:ext cx="11480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c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3770280" y="2421000"/>
                <a:ext cx="13114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1593720" y="3240000"/>
                <a:ext cx="13338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789360" y="3213000"/>
                <a:ext cx="13096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619280" y="3960720"/>
                <a:ext cx="13334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3686040" y="3933720"/>
                <a:ext cx="14986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ℓ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525680" y="4751280"/>
                <a:ext cx="15206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ℓ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3897360" y="4724280"/>
                <a:ext cx="10764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6080040" y="3865680"/>
                <a:ext cx="13827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c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6162840" y="4657680"/>
                <a:ext cx="12189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c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735200" y="5581800"/>
                <a:ext cx="110016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3897360" y="5554800"/>
                <a:ext cx="107640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71640" y="5373720"/>
            <a:ext cx="713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172200" y="6381720"/>
            <a:ext cx="171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LIMITI DI FUNZIONI   7/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10120" y="333360"/>
            <a:ext cx="293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ORME INDE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523880" y="2478240"/>
          <a:ext cx="6096240" cy="14554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145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619280" y="2986200"/>
                <a:ext cx="136836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5003640" y="2558880"/>
                <a:ext cx="617760" cy="13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∞</m:t>
                        </m:r>
                      </m:num>
                      <m:den>
                        <m:r>
                          <m:t xml:space="preserve">∞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3297240" y="2897280"/>
                <a:ext cx="10587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⋅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634080" y="2522520"/>
                <a:ext cx="53028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900000" y="1332000"/>
            <a:ext cx="790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 definitiva, non è possibile determinare il limite in alcune delle operazioni precedentemente descri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00000" y="4875120"/>
            <a:ext cx="790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r determinare il limite o per dimostrare che il limite non esiste, è necessario ricorrere ad opportuni accorgim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8T15:40:07Z</dcterms:created>
  <dc:creator>Carmelo Ciaramella</dc:creator>
  <dc:description/>
  <dc:language>en-US</dc:language>
  <cp:lastModifiedBy>Carmelo Ciaramella</cp:lastModifiedBy>
  <dcterms:modified xsi:type="dcterms:W3CDTF">2005-09-28T12:37:28Z</dcterms:modified>
  <cp:revision>112</cp:revision>
  <dc:subject/>
  <dc:title>Diapositiva 1</dc:title>
</cp:coreProperties>
</file>