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FF6-AC77-439C-9A25-EF86F1E6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BF66-A4F7-440C-9CA3-8B8F8729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A99-33B7-42B5-96D9-9C5DC8C0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4F8-5CA9-47A5-A078-7BE60B19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6D4-D7C6-466A-BC84-2030D8A1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DB26-0B07-4126-AE31-808AEEA6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4900-8C70-4DE9-B11A-52A44270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BDDF-20A1-475F-8CE8-F52DE137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D9F-FDA5-4CBD-9E68-7ECB8168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CA3-EFA1-4D96-9B31-43841729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631-7341-4EC5-BA1C-4DEE20A1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7B0-0B83-4C54-A4AE-0A851E19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971A-6475-45FB-94D4-0C7787BBA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82240" cy="6096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23200" y="2906640"/>
            <a:ext cx="52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RIVATE DI UNA FUN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3654360"/>
            <a:ext cx="4191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Concetti introdutti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efinizione di deriv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erivata destra, sini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ignificato geomet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053120" y="5657760"/>
            <a:ext cx="1481400" cy="80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erequisiti :                  - 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imit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8000" y="2286000"/>
            <a:ext cx="8351640" cy="4191120"/>
          </a:xfrm>
          <a:prstGeom prst="rect">
            <a:avLst/>
          </a:prstGeom>
          <a:solidFill>
            <a:srgbClr val="dd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04920"/>
            <a:ext cx="8305920" cy="19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CETTI INTRODUTT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 derivata  di  una  funzione  in  un  punto  x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,  che  indicheremo  col  simbolo f’(x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,  è  un  numero  che  misura  la  variazione  della  f(x)  in  un intorno del  punto, ovvero  la  “rapidità”  con  cui  cresce  o  decresce  la  f(x)  in  un intorno  di  x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.     La derivata  risulta  quindi  essere  legata  alla  pendenza  del  grafico  della funzione  in  un  intorno  di  x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133720" y="2438280"/>
            <a:ext cx="0" cy="377208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52680" y="2471760"/>
            <a:ext cx="8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09480" y="5829480"/>
            <a:ext cx="7925040" cy="144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582948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   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5720" y="2473200"/>
            <a:ext cx="6716520" cy="3210120"/>
          </a:xfrm>
          <a:custGeom>
            <a:avLst/>
            <a:gdLst/>
            <a:ahLst/>
            <a:rect l="l" t="t" r="r" b="b"/>
            <a:pathLst>
              <a:path w="4231" h="2022">
                <a:moveTo>
                  <a:pt x="0" y="2022"/>
                </a:moveTo>
                <a:cubicBezTo>
                  <a:pt x="54" y="2012"/>
                  <a:pt x="209" y="1990"/>
                  <a:pt x="325" y="1963"/>
                </a:cubicBezTo>
                <a:cubicBezTo>
                  <a:pt x="441" y="1936"/>
                  <a:pt x="603" y="1889"/>
                  <a:pt x="694" y="1859"/>
                </a:cubicBezTo>
                <a:cubicBezTo>
                  <a:pt x="785" y="1829"/>
                  <a:pt x="812" y="1822"/>
                  <a:pt x="871" y="1785"/>
                </a:cubicBezTo>
                <a:cubicBezTo>
                  <a:pt x="930" y="1748"/>
                  <a:pt x="997" y="1699"/>
                  <a:pt x="1049" y="1638"/>
                </a:cubicBezTo>
                <a:cubicBezTo>
                  <a:pt x="1101" y="1577"/>
                  <a:pt x="1137" y="1512"/>
                  <a:pt x="1182" y="1416"/>
                </a:cubicBezTo>
                <a:cubicBezTo>
                  <a:pt x="1227" y="1320"/>
                  <a:pt x="1268" y="1166"/>
                  <a:pt x="1321" y="1061"/>
                </a:cubicBezTo>
                <a:cubicBezTo>
                  <a:pt x="1374" y="956"/>
                  <a:pt x="1443" y="858"/>
                  <a:pt x="1501" y="785"/>
                </a:cubicBezTo>
                <a:cubicBezTo>
                  <a:pt x="1559" y="712"/>
                  <a:pt x="1607" y="669"/>
                  <a:pt x="1669" y="619"/>
                </a:cubicBezTo>
                <a:cubicBezTo>
                  <a:pt x="1731" y="569"/>
                  <a:pt x="1795" y="518"/>
                  <a:pt x="1876" y="486"/>
                </a:cubicBezTo>
                <a:cubicBezTo>
                  <a:pt x="1957" y="454"/>
                  <a:pt x="2065" y="427"/>
                  <a:pt x="2156" y="427"/>
                </a:cubicBezTo>
                <a:cubicBezTo>
                  <a:pt x="2247" y="427"/>
                  <a:pt x="2343" y="454"/>
                  <a:pt x="2422" y="486"/>
                </a:cubicBezTo>
                <a:cubicBezTo>
                  <a:pt x="2501" y="518"/>
                  <a:pt x="2556" y="553"/>
                  <a:pt x="2629" y="619"/>
                </a:cubicBezTo>
                <a:cubicBezTo>
                  <a:pt x="2702" y="685"/>
                  <a:pt x="2779" y="749"/>
                  <a:pt x="2858" y="884"/>
                </a:cubicBezTo>
                <a:cubicBezTo>
                  <a:pt x="2937" y="1019"/>
                  <a:pt x="3044" y="1310"/>
                  <a:pt x="3102" y="1431"/>
                </a:cubicBezTo>
                <a:cubicBezTo>
                  <a:pt x="3160" y="1552"/>
                  <a:pt x="3153" y="1544"/>
                  <a:pt x="3205" y="1608"/>
                </a:cubicBezTo>
                <a:cubicBezTo>
                  <a:pt x="3257" y="1672"/>
                  <a:pt x="3348" y="1768"/>
                  <a:pt x="3412" y="1815"/>
                </a:cubicBezTo>
                <a:cubicBezTo>
                  <a:pt x="3476" y="1862"/>
                  <a:pt x="3533" y="1889"/>
                  <a:pt x="3589" y="1889"/>
                </a:cubicBezTo>
                <a:cubicBezTo>
                  <a:pt x="3645" y="1889"/>
                  <a:pt x="3697" y="1869"/>
                  <a:pt x="3751" y="1815"/>
                </a:cubicBezTo>
                <a:cubicBezTo>
                  <a:pt x="3805" y="1761"/>
                  <a:pt x="3860" y="1685"/>
                  <a:pt x="3914" y="1564"/>
                </a:cubicBezTo>
                <a:cubicBezTo>
                  <a:pt x="3968" y="1443"/>
                  <a:pt x="4023" y="1352"/>
                  <a:pt x="4076" y="1091"/>
                </a:cubicBezTo>
                <a:cubicBezTo>
                  <a:pt x="4129" y="830"/>
                  <a:pt x="4199" y="227"/>
                  <a:pt x="4231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063960"/>
            <a:ext cx="990720" cy="1015920"/>
          </a:xfrm>
          <a:prstGeom prst="ellipse">
            <a:avLst/>
          </a:prstGeom>
          <a:solidFill>
            <a:srgbClr val="e9ed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6200" y="2743200"/>
            <a:ext cx="500040" cy="1523880"/>
          </a:xfrm>
          <a:prstGeom prst="rect">
            <a:avLst/>
          </a:prstGeom>
          <a:solidFill>
            <a:srgbClr val="dd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5040" y="28256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6720" y="4013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74680" y="38354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0240" y="30337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88936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39960" y="3986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440" y="34416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6120" y="3419640"/>
            <a:ext cx="8128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88840" y="3246120"/>
            <a:ext cx="376560" cy="322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6720" y="3203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ndale Mo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95320" y="3581280"/>
            <a:ext cx="47628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114640" y="3925800"/>
            <a:ext cx="990360" cy="1900080"/>
            <a:chOff x="2114640" y="3925800"/>
            <a:chExt cx="990360" cy="1900080"/>
          </a:xfrm>
        </p:grpSpPr>
        <p:sp>
          <p:nvSpPr>
            <p:cNvPr id="66" name=""/>
            <p:cNvSpPr/>
            <p:nvPr/>
          </p:nvSpPr>
          <p:spPr>
            <a:xfrm flipV="1">
              <a:off x="2743200" y="4682880"/>
              <a:ext cx="0" cy="114300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762280" y="4233600"/>
              <a:ext cx="201600" cy="401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14640" y="3925800"/>
              <a:ext cx="9903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f ’(x</a:t>
              </a:r>
              <a:r>
                <a:rPr b="0" lang="en-US" sz="1300" spc="-1" strike="noStrike" baseline="-25000">
                  <a:solidFill>
                    <a:srgbClr val="0000ff"/>
                  </a:solidFill>
                  <a:latin typeface="Arial"/>
                </a:rPr>
                <a:t>0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r>
                <a:rPr b="0" lang="en-US" sz="8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lang="en-US" sz="8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46280" y="42735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ndale Mono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841920" y="2681280"/>
            <a:ext cx="990360" cy="3147840"/>
            <a:chOff x="3841920" y="2681280"/>
            <a:chExt cx="990360" cy="3147840"/>
          </a:xfrm>
        </p:grpSpPr>
        <p:sp>
          <p:nvSpPr>
            <p:cNvPr id="71" name=""/>
            <p:cNvSpPr/>
            <p:nvPr/>
          </p:nvSpPr>
          <p:spPr>
            <a:xfrm flipV="1">
              <a:off x="4267080" y="3161880"/>
              <a:ext cx="0" cy="266724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51440" y="2768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ndale Mono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72120" y="3147840"/>
              <a:ext cx="46332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41920" y="2681280"/>
              <a:ext cx="9903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r>
                <a:rPr b="0" lang="en-US" sz="13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’(x</a:t>
              </a:r>
              <a:r>
                <a:rPr b="0" lang="en-US" sz="13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r>
                <a:rPr b="0" lang="en-US" sz="8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lang="en-US" sz="8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821120" y="2952720"/>
            <a:ext cx="1046160" cy="2876760"/>
            <a:chOff x="4821120" y="2952720"/>
            <a:chExt cx="1046160" cy="2876760"/>
          </a:xfrm>
        </p:grpSpPr>
        <p:sp>
          <p:nvSpPr>
            <p:cNvPr id="76" name=""/>
            <p:cNvSpPr/>
            <p:nvPr/>
          </p:nvSpPr>
          <p:spPr>
            <a:xfrm flipV="1">
              <a:off x="5029200" y="3467160"/>
              <a:ext cx="0" cy="236232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21120" y="30592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ndale Mono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1800" y="3456000"/>
              <a:ext cx="366840" cy="301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6920" y="2952720"/>
              <a:ext cx="9903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r>
                <a:rPr b="0" lang="en-US" sz="13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’(x</a:t>
              </a:r>
              <a:r>
                <a:rPr b="0" lang="en-US" sz="1300" spc="-1" strike="noStrike" baseline="-25000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r>
                <a:rPr b="0" lang="en-US" sz="8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lang="en-US" sz="8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-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570640" y="4375080"/>
            <a:ext cx="1116000" cy="1454400"/>
            <a:chOff x="5570640" y="4375080"/>
            <a:chExt cx="1116000" cy="1454400"/>
          </a:xfrm>
        </p:grpSpPr>
        <p:sp>
          <p:nvSpPr>
            <p:cNvPr id="81" name=""/>
            <p:cNvSpPr/>
            <p:nvPr/>
          </p:nvSpPr>
          <p:spPr>
            <a:xfrm flipV="1">
              <a:off x="5791320" y="4762440"/>
              <a:ext cx="0" cy="106704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70640" y="43750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ndale Mono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86280" y="4767120"/>
              <a:ext cx="209880" cy="420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95920" y="4400640"/>
              <a:ext cx="9907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r>
                <a:rPr b="0" lang="en-US" sz="13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’(x</a:t>
              </a:r>
              <a:r>
                <a:rPr b="0" lang="en-US" sz="1300" spc="-1" strike="noStrike" baseline="-25000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r>
                <a:rPr b="0" lang="en-US" sz="8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lang="en-US" sz="8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058080" y="4991040"/>
            <a:ext cx="990360" cy="838080"/>
            <a:chOff x="6058080" y="4991040"/>
            <a:chExt cx="990360" cy="838080"/>
          </a:xfrm>
        </p:grpSpPr>
        <p:sp>
          <p:nvSpPr>
            <p:cNvPr id="86" name=""/>
            <p:cNvSpPr/>
            <p:nvPr/>
          </p:nvSpPr>
          <p:spPr>
            <a:xfrm flipV="1">
              <a:off x="6553080" y="5471640"/>
              <a:ext cx="0" cy="35748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43560" y="50943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ndale Mono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566040" y="5474880"/>
              <a:ext cx="466560" cy="3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58080" y="4991040"/>
              <a:ext cx="9903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r>
                <a:rPr b="0" lang="en-US" sz="13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’(x</a:t>
              </a:r>
              <a:r>
                <a:rPr b="0" lang="en-US" sz="1300" spc="-1" strike="noStrike" baseline="-25000">
                  <a:solidFill>
                    <a:srgbClr val="0000ff"/>
                  </a:solidFill>
                  <a:latin typeface="Arial"/>
                </a:rPr>
                <a:t>5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r>
                <a:rPr b="0" lang="en-US" sz="8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lang="en-US" sz="8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438960" y="3076560"/>
            <a:ext cx="1166760" cy="2747880"/>
            <a:chOff x="6438960" y="3076560"/>
            <a:chExt cx="1166760" cy="2747880"/>
          </a:xfrm>
        </p:grpSpPr>
        <p:sp>
          <p:nvSpPr>
            <p:cNvPr id="91" name=""/>
            <p:cNvSpPr/>
            <p:nvPr/>
          </p:nvSpPr>
          <p:spPr>
            <a:xfrm flipV="1">
              <a:off x="7426440" y="3576600"/>
              <a:ext cx="6120" cy="224784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7429680" y="3076560"/>
              <a:ext cx="85680" cy="488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24840" y="3160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ndale Mono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38960" y="3276720"/>
              <a:ext cx="9907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r>
                <a:rPr b="0" lang="en-US" sz="13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’(x</a:t>
              </a:r>
              <a:r>
                <a:rPr b="0" lang="en-US" sz="1300" spc="-1" strike="noStrike" baseline="-25000">
                  <a:solidFill>
                    <a:srgbClr val="0000ff"/>
                  </a:solidFill>
                  <a:latin typeface="Arial"/>
                </a:rPr>
                <a:t>6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r>
                <a:rPr b="0" lang="en-US" sz="8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lang="en-US" sz="8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709720" y="2971800"/>
            <a:ext cx="1185840" cy="2857680"/>
            <a:chOff x="2709720" y="2971800"/>
            <a:chExt cx="1185840" cy="2857680"/>
          </a:xfrm>
        </p:grpSpPr>
        <p:sp>
          <p:nvSpPr>
            <p:cNvPr id="96" name=""/>
            <p:cNvSpPr/>
            <p:nvPr/>
          </p:nvSpPr>
          <p:spPr>
            <a:xfrm flipV="1">
              <a:off x="3505320" y="3475080"/>
              <a:ext cx="0" cy="235440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95800" y="3067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ndale Mono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09720" y="2971800"/>
              <a:ext cx="990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f ’(x</a:t>
              </a:r>
              <a:r>
                <a:rPr b="0" lang="en-US" sz="13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r>
                <a:rPr b="0" lang="en-US" sz="8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lang="en-US" sz="8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519360" y="3112560"/>
              <a:ext cx="376200" cy="320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848720" y="65372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DERIVATE    1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91120" y="914400"/>
            <a:ext cx="4647960" cy="3213000"/>
          </a:xfrm>
          <a:prstGeom prst="rect">
            <a:avLst/>
          </a:prstGeom>
          <a:solidFill>
            <a:srgbClr val="d1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1896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FINIZIONE DI DERIVATA DI UNA FUNZIONE IN UN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86400" y="1073160"/>
            <a:ext cx="0" cy="257184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34000" y="3352680"/>
            <a:ext cx="402912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05200" y="3352680"/>
            <a:ext cx="413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f5f5f"/>
                </a:solidFill>
                <a:latin typeface="Arial"/>
              </a:rPr>
              <a:t>          </a:t>
            </a:r>
            <a:r>
              <a:rPr b="0" lang="it-IT" sz="1400" spc="-1" strike="noStrike">
                <a:solidFill>
                  <a:srgbClr val="5f5f5f"/>
                </a:solidFill>
                <a:latin typeface="Arial"/>
              </a:rPr>
              <a:t>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it-IT" sz="1400" spc="-1" strike="noStrike">
                <a:solidFill>
                  <a:srgbClr val="5f5f5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9907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838760" y="2373480"/>
            <a:ext cx="1380960" cy="336240"/>
            <a:chOff x="4838760" y="2373480"/>
            <a:chExt cx="1380960" cy="336240"/>
          </a:xfrm>
        </p:grpSpPr>
        <p:sp>
          <p:nvSpPr>
            <p:cNvPr id="108" name=""/>
            <p:cNvSpPr/>
            <p:nvPr/>
          </p:nvSpPr>
          <p:spPr>
            <a:xfrm>
              <a:off x="4838760" y="23734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(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6400" y="2544840"/>
              <a:ext cx="733320" cy="0"/>
            </a:xfrm>
            <a:prstGeom prst="line">
              <a:avLst/>
            </a:prstGeom>
            <a:ln w="32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724280" y="1676520"/>
            <a:ext cx="2514600" cy="336240"/>
            <a:chOff x="4724280" y="1676520"/>
            <a:chExt cx="2514600" cy="336240"/>
          </a:xfrm>
        </p:grpSpPr>
        <p:sp>
          <p:nvSpPr>
            <p:cNvPr id="111" name=""/>
            <p:cNvSpPr/>
            <p:nvPr/>
          </p:nvSpPr>
          <p:spPr>
            <a:xfrm>
              <a:off x="4724280" y="1676520"/>
              <a:ext cx="914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(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h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83160" y="1828800"/>
              <a:ext cx="1755720" cy="0"/>
            </a:xfrm>
            <a:prstGeom prst="line">
              <a:avLst/>
            </a:prstGeom>
            <a:ln w="32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229440" y="3695760"/>
            <a:ext cx="1009440" cy="450360"/>
            <a:chOff x="6229440" y="3695760"/>
            <a:chExt cx="1009440" cy="450360"/>
          </a:xfrm>
        </p:grpSpPr>
        <p:sp>
          <p:nvSpPr>
            <p:cNvPr id="114" name=""/>
            <p:cNvSpPr/>
            <p:nvPr/>
          </p:nvSpPr>
          <p:spPr>
            <a:xfrm>
              <a:off x="6324480" y="3809880"/>
              <a:ext cx="838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x = h</a:t>
              </a:r>
              <a:r>
                <a:rPr b="0" lang="en-US" sz="1400" spc="-1" strike="noStrike" baseline="-25000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6657840" y="3267000"/>
              <a:ext cx="152280" cy="1009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6280 h 1009440"/>
                <a:gd name="textAreaBottom" fmla="*/ 983160 h 100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038480" y="1828800"/>
            <a:ext cx="838440" cy="736560"/>
            <a:chOff x="4038480" y="1828800"/>
            <a:chExt cx="838440" cy="736560"/>
          </a:xfrm>
        </p:grpSpPr>
        <p:sp>
          <p:nvSpPr>
            <p:cNvPr id="117" name=""/>
            <p:cNvSpPr/>
            <p:nvPr/>
          </p:nvSpPr>
          <p:spPr>
            <a:xfrm>
              <a:off x="4038480" y="2019240"/>
              <a:ext cx="8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609440" y="1828800"/>
              <a:ext cx="190440" cy="736560"/>
            </a:xfrm>
            <a:custGeom>
              <a:avLst/>
              <a:gdLst>
                <a:gd name="textAreaLeft" fmla="*/ 0 w 190440"/>
                <a:gd name="textAreaRight" fmla="*/ 68760 w 190440"/>
                <a:gd name="textAreaTop" fmla="*/ 19080 h 736560"/>
                <a:gd name="textAreaBottom" fmla="*/ 717480 h 7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920" y="9907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iamo  una  funzione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(x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definita  in un  intervallo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] a, b [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752480"/>
            <a:ext cx="419076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a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un  punto  interno  ad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] a, b [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e  sia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+ 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il  punto ottenuto  aggiungendo  ad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la quantità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2819520"/>
            <a:ext cx="365760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dicheremo  con i simboli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e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le seguenti  differenz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 =  f(x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+h)  –  f(x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x =  x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+h  –  x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=  h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04920" y="5105520"/>
            <a:ext cx="8534160" cy="1309680"/>
            <a:chOff x="304920" y="5105520"/>
            <a:chExt cx="8534160" cy="1309680"/>
          </a:xfrm>
        </p:grpSpPr>
        <p:sp>
          <p:nvSpPr>
            <p:cNvPr id="123" name=""/>
            <p:cNvSpPr/>
            <p:nvPr/>
          </p:nvSpPr>
          <p:spPr>
            <a:xfrm>
              <a:off x="304920" y="5105520"/>
              <a:ext cx="853416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hiameremo infine  </a:t>
              </a:r>
              <a:r>
                <a:rPr b="0" lang="en-US" sz="1700" spc="-1" strike="noStrike">
                  <a:solidFill>
                    <a:srgbClr val="3333cc"/>
                  </a:solidFill>
                  <a:latin typeface="Arial"/>
                </a:rPr>
                <a:t>rapporto  incrementale relativo  al  punto  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1700" spc="-1" strike="noStrike">
                  <a:solidFill>
                    <a:srgbClr val="3333cc"/>
                  </a:solidFill>
                  <a:latin typeface="Arial"/>
                </a:rPr>
                <a:t>  e  all’incremento  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il seguente rapporto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3048120" y="5715000"/>
              <a:ext cx="2438280" cy="7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304920" y="42670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 le chiameremo rispettivamente 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incremento della funzion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 )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incremento della variabi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= 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629240" y="1685880"/>
            <a:ext cx="3886200" cy="1973880"/>
            <a:chOff x="4629240" y="1685880"/>
            <a:chExt cx="3886200" cy="1973880"/>
          </a:xfrm>
        </p:grpSpPr>
        <p:sp>
          <p:nvSpPr>
            <p:cNvPr id="127" name=""/>
            <p:cNvSpPr/>
            <p:nvPr/>
          </p:nvSpPr>
          <p:spPr>
            <a:xfrm>
              <a:off x="4967280" y="1685880"/>
              <a:ext cx="3152880" cy="1420920"/>
            </a:xfrm>
            <a:custGeom>
              <a:avLst/>
              <a:gdLst/>
              <a:ahLst/>
              <a:rect l="l" t="t" r="r" b="b"/>
              <a:pathLst>
                <a:path w="1986" h="895">
                  <a:moveTo>
                    <a:pt x="0" y="870"/>
                  </a:moveTo>
                  <a:cubicBezTo>
                    <a:pt x="40" y="874"/>
                    <a:pt x="160" y="895"/>
                    <a:pt x="240" y="894"/>
                  </a:cubicBezTo>
                  <a:cubicBezTo>
                    <a:pt x="320" y="893"/>
                    <a:pt x="421" y="881"/>
                    <a:pt x="483" y="864"/>
                  </a:cubicBezTo>
                  <a:cubicBezTo>
                    <a:pt x="545" y="847"/>
                    <a:pt x="577" y="821"/>
                    <a:pt x="615" y="793"/>
                  </a:cubicBezTo>
                  <a:cubicBezTo>
                    <a:pt x="653" y="764"/>
                    <a:pt x="685" y="720"/>
                    <a:pt x="708" y="691"/>
                  </a:cubicBezTo>
                  <a:cubicBezTo>
                    <a:pt x="731" y="663"/>
                    <a:pt x="725" y="665"/>
                    <a:pt x="753" y="620"/>
                  </a:cubicBezTo>
                  <a:cubicBezTo>
                    <a:pt x="781" y="575"/>
                    <a:pt x="832" y="480"/>
                    <a:pt x="879" y="423"/>
                  </a:cubicBezTo>
                  <a:cubicBezTo>
                    <a:pt x="926" y="367"/>
                    <a:pt x="982" y="322"/>
                    <a:pt x="1035" y="280"/>
                  </a:cubicBezTo>
                  <a:cubicBezTo>
                    <a:pt x="1088" y="238"/>
                    <a:pt x="1143" y="201"/>
                    <a:pt x="1197" y="173"/>
                  </a:cubicBezTo>
                  <a:cubicBezTo>
                    <a:pt x="1251" y="145"/>
                    <a:pt x="1300" y="131"/>
                    <a:pt x="1356" y="114"/>
                  </a:cubicBezTo>
                  <a:cubicBezTo>
                    <a:pt x="1412" y="97"/>
                    <a:pt x="1459" y="83"/>
                    <a:pt x="1536" y="72"/>
                  </a:cubicBezTo>
                  <a:cubicBezTo>
                    <a:pt x="1613" y="61"/>
                    <a:pt x="1743" y="60"/>
                    <a:pt x="1818" y="48"/>
                  </a:cubicBezTo>
                  <a:cubicBezTo>
                    <a:pt x="1893" y="36"/>
                    <a:pt x="1951" y="10"/>
                    <a:pt x="1986" y="0"/>
                  </a:cubicBezTo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29240" y="33526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00061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29640" y="33526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00061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000840" y="2165400"/>
            <a:ext cx="533160" cy="1528560"/>
            <a:chOff x="6000840" y="2165400"/>
            <a:chExt cx="533160" cy="1528560"/>
          </a:xfrm>
        </p:grpSpPr>
        <p:sp>
          <p:nvSpPr>
            <p:cNvPr id="131" name=""/>
            <p:cNvSpPr/>
            <p:nvPr/>
          </p:nvSpPr>
          <p:spPr>
            <a:xfrm flipV="1">
              <a:off x="6229440" y="2581920"/>
              <a:ext cx="0" cy="781560"/>
            </a:xfrm>
            <a:prstGeom prst="line">
              <a:avLst/>
            </a:prstGeom>
            <a:ln w="32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24600" y="2165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ndale Mono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00840" y="3357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962760" y="1454040"/>
            <a:ext cx="609480" cy="2239200"/>
            <a:chOff x="6962760" y="1454040"/>
            <a:chExt cx="609480" cy="2239200"/>
          </a:xfrm>
        </p:grpSpPr>
        <p:sp>
          <p:nvSpPr>
            <p:cNvPr id="135" name=""/>
            <p:cNvSpPr/>
            <p:nvPr/>
          </p:nvSpPr>
          <p:spPr>
            <a:xfrm flipV="1">
              <a:off x="7238880" y="1863360"/>
              <a:ext cx="0" cy="1492920"/>
            </a:xfrm>
            <a:prstGeom prst="line">
              <a:avLst/>
            </a:prstGeom>
            <a:ln w="32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23240" y="145404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ndale Mono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62760" y="335700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848720" y="65372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DERIVATE    2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666880" y="1852560"/>
            <a:ext cx="3200400" cy="903240"/>
          </a:xfrm>
          <a:prstGeom prst="rect">
            <a:avLst/>
          </a:prstGeom>
          <a:solidFill>
            <a:srgbClr val="dbe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57200"/>
            <a:ext cx="838188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Definizione:  funzione derivabile in un punto – derivata in un pu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Una  funzione  si  dice  derivabile  in  un  punto  x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se  esiste  ed  è  finito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 il  limite  del  rapporto  incrementale  della  funzione  quando  l’incremento  h   della variabile  tende  a  zero,  cioè  </a:t>
            </a:r>
            <a:r>
              <a:rPr b="0" i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se  esiste  ed  è  finito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 il  seguente  limi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048120" y="1981080"/>
                <a:ext cx="23619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304920" y="2819520"/>
            <a:ext cx="8381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Il  risultato  del  precedente  limite  lo  diremo  derivata  della f(x)  nel punto x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 e  lo indicheremo  con  uno  qualunque  dei  simboli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3676680"/>
            <a:ext cx="83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678120"/>
            <a:ext cx="83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33840" y="3719520"/>
                <a:ext cx="1143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400800" y="3576600"/>
                <a:ext cx="8380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304920" y="4343400"/>
            <a:ext cx="8381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Se  il  precedente  limite  non  esiste,  oppure  non  dà  come  risultato  un  numero finito,  allora  diremo  che  la  funzione  f(x)  non  è  derivabile  nel  punto 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33520" y="5257800"/>
            <a:ext cx="7467480" cy="1219320"/>
            <a:chOff x="533520" y="5257800"/>
            <a:chExt cx="7467480" cy="1219320"/>
          </a:xfrm>
        </p:grpSpPr>
        <p:sp>
          <p:nvSpPr>
            <p:cNvPr id="149" name=""/>
            <p:cNvSpPr/>
            <p:nvPr/>
          </p:nvSpPr>
          <p:spPr>
            <a:xfrm>
              <a:off x="533520" y="5257800"/>
              <a:ext cx="7467480" cy="1219320"/>
            </a:xfrm>
            <a:prstGeom prst="rect">
              <a:avLst/>
            </a:prstGeom>
            <a:solidFill>
              <a:srgbClr val="cbd7ff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520" y="5288040"/>
              <a:ext cx="3581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derivata in simboli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2735280" y="5562720"/>
                  <a:ext cx="3360600" cy="69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'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h</m:t>
                          </m:r>
                          <m:r>
                            <m:t xml:space="preserve">→</m:t>
                          </m:r>
                          <m:r>
                            <m:t xml:space="preserve">0</m:t>
                          </m:r>
                        </m:lim>
                      </m:limLow>
                      <m:f>
                        <m:num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h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h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38080" y="52578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65372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DERIVATE    3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31896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RIVATA DESTRA E DERIVATA SINI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762120"/>
            <a:ext cx="8686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erte  volte,  pur  non  esistendo  il  limite  per  h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  del  rapporto  incrementale, possono  esistere  finiti  il  limite  destro  e/o  il  limite sinistro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676520" y="1447920"/>
                <a:ext cx="2361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916520" y="1447920"/>
                <a:ext cx="2322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304920" y="2133720"/>
            <a:ext cx="8686800" cy="2808000"/>
            <a:chOff x="304920" y="2133720"/>
            <a:chExt cx="8686800" cy="2808000"/>
          </a:xfrm>
        </p:grpSpPr>
        <p:sp>
          <p:nvSpPr>
            <p:cNvPr id="160" name=""/>
            <p:cNvSpPr/>
            <p:nvPr/>
          </p:nvSpPr>
          <p:spPr>
            <a:xfrm>
              <a:off x="4648320" y="4038480"/>
              <a:ext cx="3827520" cy="903240"/>
            </a:xfrm>
            <a:prstGeom prst="rect">
              <a:avLst/>
            </a:prstGeom>
            <a:solidFill>
              <a:srgbClr val="dbe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9760" y="4038480"/>
              <a:ext cx="3833640" cy="903240"/>
            </a:xfrm>
            <a:prstGeom prst="rect">
              <a:avLst/>
            </a:prstGeom>
            <a:solidFill>
              <a:srgbClr val="dbe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4920" y="2133720"/>
              <a:ext cx="86868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llora possiamo dare la seguente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2895480"/>
              <a:ext cx="8610480" cy="11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66ff"/>
                  </a:solidFill>
                  <a:latin typeface="Arial"/>
                </a:rPr>
                <a:t>Definizione:  derivata destra  e  derivata sinistra                                              </a:t>
              </a: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Diremo  derivata  destra  e  derivata  sinistra  di  f(x)  in  x</a:t>
              </a:r>
              <a:r>
                <a:rPr b="0" i="1" lang="it-IT" sz="17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 , e  le  indicheremo con  i  simboli                   e                   i  risultati,  </a:t>
              </a:r>
              <a:r>
                <a:rPr b="0" i="1" lang="it-IT" sz="1700" spc="-1" strike="noStrike" u="sng">
                  <a:solidFill>
                    <a:srgbClr val="000000"/>
                  </a:solidFill>
                  <a:uFillTx/>
                  <a:latin typeface="Arial"/>
                </a:rPr>
                <a:t>se  esistono  e  sono  finiti</a:t>
              </a: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 ,  dei seguenti  limiti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733320" y="4173480"/>
                  <a:ext cx="3305160" cy="66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h</m:t>
                          </m:r>
                          <m:r>
                            <m:t xml:space="preserve">→</m:t>
                          </m:r>
                          <m:sSup>
                            <m:e>
                              <m:r>
                                <m:t xml:space="preserve">0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</m:lim>
                      </m:limLow>
                      <m:f>
                        <m:num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h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h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4924440" y="4173480"/>
                  <a:ext cx="3305160" cy="66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h</m:t>
                          </m:r>
                          <m:r>
                            <m:t xml:space="preserve">→</m:t>
                          </m:r>
                          <m:sSup>
                            <m:e>
                              <m:r>
                                <m:t xml:space="preserve">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</m:lim>
                      </m:limLow>
                      <m:f>
                        <m:num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h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h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66" name=""/>
            <p:cNvGrpSpPr/>
            <p:nvPr/>
          </p:nvGrpSpPr>
          <p:grpSpPr>
            <a:xfrm>
              <a:off x="1306440" y="3419640"/>
              <a:ext cx="1970280" cy="399960"/>
              <a:chOff x="1306440" y="3419640"/>
              <a:chExt cx="1970280" cy="399960"/>
            </a:xfrm>
          </p:grpSpPr>
          <mc:AlternateContent>
            <mc:Choice xmlns:a14="http://schemas.microsoft.com/office/drawing/2010/main" Requires="a14">
              <p:sp>
                <p:nvSpPr>
                  <p:cNvPr id="167" name=""/>
                  <p:cNvSpPr txBox="1"/>
                  <p:nvPr/>
                </p:nvSpPr>
                <p:spPr>
                  <a:xfrm>
                    <a:off x="2565360" y="3419640"/>
                    <a:ext cx="711360" cy="388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8" name=""/>
                  <p:cNvSpPr txBox="1"/>
                  <p:nvPr/>
                </p:nvSpPr>
                <p:spPr>
                  <a:xfrm>
                    <a:off x="1306440" y="3429000"/>
                    <a:ext cx="736920" cy="390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69" name=""/>
          <p:cNvSpPr/>
          <p:nvPr/>
        </p:nvSpPr>
        <p:spPr>
          <a:xfrm>
            <a:off x="304920" y="5288040"/>
            <a:ext cx="83055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990033"/>
                </a:solidFill>
                <a:latin typeface="Arial"/>
              </a:rPr>
              <a:t>Osservazione:</a:t>
            </a:r>
            <a:r>
              <a:rPr b="1" i="1" lang="it-IT" sz="18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i="1" lang="it-IT" sz="1700" spc="-1" strike="noStrike">
                <a:solidFill>
                  <a:srgbClr val="000000"/>
                </a:solidFill>
                <a:latin typeface="Arial"/>
              </a:rPr>
              <a:t>Quando  una  funzione  è  derivabile  in  x</a:t>
            </a:r>
            <a:r>
              <a:rPr b="0" i="1" lang="it-IT" sz="1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it-IT" sz="1700" spc="-1" strike="noStrike">
                <a:solidFill>
                  <a:srgbClr val="000000"/>
                </a:solidFill>
                <a:latin typeface="Arial"/>
              </a:rPr>
              <a:t>  nel  senso  della  definizione  ordinaria allora  esistono  anche  la  derivata  destra e quella sinistra e  </a:t>
            </a:r>
            <a:r>
              <a:rPr b="0" i="1" lang="it-IT" sz="1700" spc="-1" strike="noStrike" u="sng">
                <a:solidFill>
                  <a:srgbClr val="000000"/>
                </a:solidFill>
                <a:uFillTx/>
                <a:latin typeface="Arial"/>
              </a:rPr>
              <a:t>sono uguali  fra  lor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534520" y="5791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848720" y="65372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DERIVATE    4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880" y="762120"/>
            <a:ext cx="8382240" cy="2484360"/>
          </a:xfrm>
          <a:prstGeom prst="rect">
            <a:avLst/>
          </a:prstGeom>
          <a:solidFill>
            <a:srgbClr val="dfe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3049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IGNIFICATO GEOMETRICO DELLA DERIV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934240" y="837720"/>
            <a:ext cx="0" cy="234324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2819520"/>
            <a:ext cx="316260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2819520"/>
            <a:ext cx="33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f5f5f"/>
                </a:solidFill>
                <a:latin typeface="Arial"/>
              </a:rPr>
              <a:t>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x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x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Arial"/>
              </a:rPr>
              <a:t>2                           </a:t>
            </a:r>
            <a:r>
              <a:rPr b="0" lang="it-IT" sz="1400" spc="-1" strike="noStrike">
                <a:solidFill>
                  <a:srgbClr val="5f5f5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8571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830160"/>
            <a:ext cx="50292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Promemoria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l  coefficiente  angolare  di  una  retta  passante per  i  due  punti   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   e   P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   è 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52480" y="1981080"/>
                <a:ext cx="14479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524560" y="19098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24560" y="142884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580000" y="1049400"/>
            <a:ext cx="2859120" cy="162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610320" y="2100240"/>
            <a:ext cx="0" cy="71928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448400" y="1628640"/>
            <a:ext cx="0" cy="119088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1609560"/>
            <a:ext cx="15048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3600" y="2081160"/>
            <a:ext cx="6573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5480" y="17082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57"/>
                </a:solidFill>
                <a:latin typeface="Andale Mo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43920" y="122544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57"/>
                </a:solidFill>
                <a:latin typeface="Andale Mo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05600" y="1733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0057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d60057"/>
                </a:solidFill>
                <a:latin typeface="Arial"/>
              </a:rPr>
              <a:t>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122544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0057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d6005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80880" y="3352680"/>
            <a:ext cx="8458200" cy="3124440"/>
            <a:chOff x="380880" y="3352680"/>
            <a:chExt cx="8458200" cy="3124440"/>
          </a:xfrm>
        </p:grpSpPr>
        <p:sp>
          <p:nvSpPr>
            <p:cNvPr id="192" name=""/>
            <p:cNvSpPr/>
            <p:nvPr/>
          </p:nvSpPr>
          <p:spPr>
            <a:xfrm>
              <a:off x="380880" y="3352680"/>
              <a:ext cx="46483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ata  una  funzione  f(x), il rapporto incrementale  relativo  al  punto  x</a:t>
              </a:r>
              <a:r>
                <a:rPr b="0" lang="en-US" sz="17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952880" y="3505320"/>
              <a:ext cx="3886200" cy="2971800"/>
              <a:chOff x="4952880" y="3505320"/>
              <a:chExt cx="3886200" cy="2971800"/>
            </a:xfrm>
          </p:grpSpPr>
          <p:sp>
            <p:nvSpPr>
              <p:cNvPr id="194" name=""/>
              <p:cNvSpPr/>
              <p:nvPr/>
            </p:nvSpPr>
            <p:spPr>
              <a:xfrm>
                <a:off x="4952880" y="3505320"/>
                <a:ext cx="3810240" cy="2971800"/>
              </a:xfrm>
              <a:prstGeom prst="rect">
                <a:avLst/>
              </a:prstGeom>
              <a:solidFill>
                <a:srgbClr val="d5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67280" y="4341960"/>
                <a:ext cx="2062440" cy="1150920"/>
              </a:xfrm>
              <a:custGeom>
                <a:avLst/>
                <a:gdLst/>
                <a:ahLst/>
                <a:rect l="l" t="t" r="r" b="b"/>
                <a:pathLst>
                  <a:path w="1299" h="725">
                    <a:moveTo>
                      <a:pt x="0" y="725"/>
                    </a:moveTo>
                    <a:cubicBezTo>
                      <a:pt x="35" y="718"/>
                      <a:pt x="155" y="709"/>
                      <a:pt x="212" y="681"/>
                    </a:cubicBezTo>
                    <a:cubicBezTo>
                      <a:pt x="269" y="653"/>
                      <a:pt x="305" y="602"/>
                      <a:pt x="340" y="557"/>
                    </a:cubicBezTo>
                    <a:cubicBezTo>
                      <a:pt x="375" y="512"/>
                      <a:pt x="389" y="461"/>
                      <a:pt x="424" y="413"/>
                    </a:cubicBezTo>
                    <a:cubicBezTo>
                      <a:pt x="459" y="365"/>
                      <a:pt x="498" y="315"/>
                      <a:pt x="548" y="269"/>
                    </a:cubicBezTo>
                    <a:cubicBezTo>
                      <a:pt x="598" y="223"/>
                      <a:pt x="656" y="170"/>
                      <a:pt x="727" y="135"/>
                    </a:cubicBezTo>
                    <a:cubicBezTo>
                      <a:pt x="798" y="100"/>
                      <a:pt x="898" y="72"/>
                      <a:pt x="973" y="56"/>
                    </a:cubicBezTo>
                    <a:cubicBezTo>
                      <a:pt x="1048" y="40"/>
                      <a:pt x="1123" y="47"/>
                      <a:pt x="1177" y="37"/>
                    </a:cubicBezTo>
                    <a:cubicBezTo>
                      <a:pt x="1232" y="28"/>
                      <a:pt x="1274" y="8"/>
                      <a:pt x="1299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5934240" y="3657240"/>
                <a:ext cx="0" cy="234324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56280" y="5638680"/>
                <a:ext cx="341640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86400" y="367668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f5f5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34120" y="4729320"/>
                <a:ext cx="571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(x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81480" y="4248000"/>
                <a:ext cx="838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(x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+h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5027760" y="3868560"/>
                <a:ext cx="3411360" cy="1941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6610320" y="4919400"/>
                <a:ext cx="0" cy="7189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7448400" y="4447800"/>
                <a:ext cx="0" cy="119052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4429080"/>
                <a:ext cx="1504800" cy="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943600" y="4900680"/>
                <a:ext cx="657360" cy="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405480" y="452772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60057"/>
                    </a:solidFill>
                    <a:latin typeface="Andale Mono"/>
                  </a:rPr>
                  <a:t>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37440" y="405144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60057"/>
                    </a:solidFill>
                    <a:latin typeface="Andale Mono"/>
                  </a:rPr>
                  <a:t>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562720" y="5638680"/>
                <a:ext cx="32763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5f5f5f"/>
                    </a:solidFill>
                    <a:latin typeface="Arial"/>
                  </a:rPr>
                  <a:t>O</a:t>
                </a: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                x</a:t>
                </a:r>
                <a:r>
                  <a:rPr b="0" lang="it-IT" sz="1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           x</a:t>
                </a:r>
                <a:r>
                  <a:rPr b="0" lang="it-IT" sz="1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+h</a:t>
                </a:r>
                <a:r>
                  <a:rPr b="0" lang="it-IT" sz="1400" spc="-1" strike="noStrike" baseline="-25000">
                    <a:solidFill>
                      <a:srgbClr val="000000"/>
                    </a:solidFill>
                    <a:latin typeface="Arial"/>
                  </a:rPr>
                  <a:t>                          </a:t>
                </a:r>
                <a:r>
                  <a:rPr b="0" lang="it-IT" sz="1400" spc="-1" strike="noStrike">
                    <a:solidFill>
                      <a:srgbClr val="5f5f5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410080" y="5638680"/>
                <a:ext cx="497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32800" y="5638680"/>
                <a:ext cx="496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1600200" y="4070520"/>
                  <a:ext cx="1881360" cy="67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h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h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682560" y="5545080"/>
                  <a:ext cx="129852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13" name=""/>
            <p:cNvSpPr/>
            <p:nvPr/>
          </p:nvSpPr>
          <p:spPr>
            <a:xfrm>
              <a:off x="380880" y="4800600"/>
              <a:ext cx="43434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isulta  essere  il  coefficiente  angolare della  retta  passante  per  i  punti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2467080" y="5545080"/>
                  <a:ext cx="202860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h</m:t>
                          </m:r>
                          <m:r>
                            <m:t xml:space="preserve">,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h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5" name=""/>
          <p:cNvSpPr/>
          <p:nvPr/>
        </p:nvSpPr>
        <p:spPr>
          <a:xfrm>
            <a:off x="380880" y="5943600"/>
            <a:ext cx="457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Questa  retta  la chiameremo  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retta  secant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passante  per  il  punto  di  ascissa  x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175360" y="5734080"/>
            <a:ext cx="2139840" cy="671760"/>
            <a:chOff x="5175360" y="5734080"/>
            <a:chExt cx="2139840" cy="671760"/>
          </a:xfrm>
        </p:grpSpPr>
        <p:sp>
          <p:nvSpPr>
            <p:cNvPr id="217" name=""/>
            <p:cNvSpPr/>
            <p:nvPr/>
          </p:nvSpPr>
          <p:spPr>
            <a:xfrm>
              <a:off x="5832360" y="6129360"/>
              <a:ext cx="148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retta seca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75360" y="5734080"/>
              <a:ext cx="685800" cy="533520"/>
            </a:xfrm>
            <a:custGeom>
              <a:avLst/>
              <a:gdLst/>
              <a:ahLst/>
              <a:rect l="l" t="t" r="r" b="b"/>
              <a:pathLst>
                <a:path w="432" h="336">
                  <a:moveTo>
                    <a:pt x="432" y="336"/>
                  </a:moveTo>
                  <a:lnTo>
                    <a:pt x="192" y="33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848720" y="65372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DERIVATE    5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09880" y="200160"/>
            <a:ext cx="5105520" cy="3914640"/>
          </a:xfrm>
          <a:prstGeom prst="rect">
            <a:avLst/>
          </a:prstGeom>
          <a:solidFill>
            <a:srgbClr val="d1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3505320"/>
            <a:ext cx="4786560" cy="144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65480" y="3513240"/>
            <a:ext cx="4724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f5f5f"/>
                </a:solidFill>
                <a:latin typeface="Arial"/>
              </a:rPr>
              <a:t>          </a:t>
            </a:r>
            <a:r>
              <a:rPr b="0" lang="it-IT" sz="1400" spc="-1" strike="noStrike">
                <a:solidFill>
                  <a:srgbClr val="5f5f5f"/>
                </a:solidFill>
                <a:latin typeface="Arial"/>
              </a:rPr>
              <a:t>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</a:t>
            </a:r>
            <a:r>
              <a:rPr b="0" lang="it-IT" sz="1400" spc="-1" strike="noStrike">
                <a:solidFill>
                  <a:srgbClr val="5f5f5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1120" y="457200"/>
            <a:ext cx="8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0120" y="2070000"/>
            <a:ext cx="809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49920" y="2222640"/>
            <a:ext cx="91584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778360" y="2225520"/>
            <a:ext cx="0" cy="127800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64080" y="3513240"/>
            <a:ext cx="70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86360" y="1378080"/>
            <a:ext cx="2951280" cy="1877760"/>
          </a:xfrm>
          <a:custGeom>
            <a:avLst/>
            <a:gdLst/>
            <a:ahLst/>
            <a:rect l="l" t="t" r="r" b="b"/>
            <a:pathLst>
              <a:path w="1859" h="1183">
                <a:moveTo>
                  <a:pt x="0" y="1183"/>
                </a:moveTo>
                <a:cubicBezTo>
                  <a:pt x="29" y="1178"/>
                  <a:pt x="125" y="1182"/>
                  <a:pt x="174" y="1153"/>
                </a:cubicBezTo>
                <a:cubicBezTo>
                  <a:pt x="223" y="1124"/>
                  <a:pt x="261" y="1068"/>
                  <a:pt x="294" y="1009"/>
                </a:cubicBezTo>
                <a:cubicBezTo>
                  <a:pt x="327" y="950"/>
                  <a:pt x="345" y="867"/>
                  <a:pt x="372" y="799"/>
                </a:cubicBezTo>
                <a:cubicBezTo>
                  <a:pt x="399" y="731"/>
                  <a:pt x="421" y="660"/>
                  <a:pt x="456" y="598"/>
                </a:cubicBezTo>
                <a:cubicBezTo>
                  <a:pt x="491" y="536"/>
                  <a:pt x="527" y="489"/>
                  <a:pt x="584" y="429"/>
                </a:cubicBezTo>
                <a:cubicBezTo>
                  <a:pt x="641" y="369"/>
                  <a:pt x="721" y="290"/>
                  <a:pt x="799" y="235"/>
                </a:cubicBezTo>
                <a:cubicBezTo>
                  <a:pt x="877" y="179"/>
                  <a:pt x="974" y="132"/>
                  <a:pt x="1055" y="99"/>
                </a:cubicBezTo>
                <a:cubicBezTo>
                  <a:pt x="1136" y="66"/>
                  <a:pt x="1201" y="51"/>
                  <a:pt x="1287" y="35"/>
                </a:cubicBezTo>
                <a:cubicBezTo>
                  <a:pt x="1373" y="19"/>
                  <a:pt x="1476" y="0"/>
                  <a:pt x="1571" y="0"/>
                </a:cubicBezTo>
                <a:cubicBezTo>
                  <a:pt x="1666" y="0"/>
                  <a:pt x="1799" y="25"/>
                  <a:pt x="1859" y="32"/>
                </a:cubicBezTo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848120" y="406080"/>
            <a:ext cx="0" cy="357516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848120" y="453600"/>
            <a:ext cx="2413080" cy="3108960"/>
            <a:chOff x="4848120" y="453600"/>
            <a:chExt cx="2413080" cy="3108960"/>
          </a:xfrm>
        </p:grpSpPr>
        <p:sp>
          <p:nvSpPr>
            <p:cNvPr id="231" name=""/>
            <p:cNvSpPr/>
            <p:nvPr/>
          </p:nvSpPr>
          <p:spPr>
            <a:xfrm>
              <a:off x="5770440" y="1603440"/>
              <a:ext cx="40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ndale Mono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5411880" y="453600"/>
              <a:ext cx="1849320" cy="22114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973840" y="2016000"/>
              <a:ext cx="0" cy="1479600"/>
            </a:xfrm>
            <a:prstGeom prst="line">
              <a:avLst/>
            </a:prstGeom>
            <a:ln w="32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48120" y="1994040"/>
              <a:ext cx="1114560" cy="0"/>
            </a:xfrm>
            <a:prstGeom prst="line">
              <a:avLst/>
            </a:prstGeom>
            <a:ln w="32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5748480" y="3286080"/>
              <a:ext cx="228600" cy="276480"/>
              <a:chOff x="5748480" y="3286080"/>
              <a:chExt cx="228600" cy="276480"/>
            </a:xfrm>
          </p:grpSpPr>
          <p:sp>
            <p:nvSpPr>
              <p:cNvPr id="236" name=""/>
              <p:cNvSpPr/>
              <p:nvPr/>
            </p:nvSpPr>
            <p:spPr>
              <a:xfrm>
                <a:off x="5776920" y="3328920"/>
                <a:ext cx="200160" cy="176400"/>
              </a:xfrm>
              <a:prstGeom prst="rect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748480" y="328608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4846680" y="542880"/>
            <a:ext cx="2617920" cy="3019680"/>
            <a:chOff x="4846680" y="542880"/>
            <a:chExt cx="2617920" cy="3019680"/>
          </a:xfrm>
        </p:grpSpPr>
        <p:sp>
          <p:nvSpPr>
            <p:cNvPr id="239" name=""/>
            <p:cNvSpPr/>
            <p:nvPr/>
          </p:nvSpPr>
          <p:spPr>
            <a:xfrm>
              <a:off x="6056280" y="1362240"/>
              <a:ext cx="40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ndale Mono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343480" y="542880"/>
              <a:ext cx="2121120" cy="212112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6259680" y="1767960"/>
              <a:ext cx="0" cy="1737000"/>
            </a:xfrm>
            <a:prstGeom prst="line">
              <a:avLst/>
            </a:prstGeom>
            <a:ln w="32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46680" y="1739880"/>
              <a:ext cx="1400040" cy="0"/>
            </a:xfrm>
            <a:prstGeom prst="line">
              <a:avLst/>
            </a:prstGeom>
            <a:ln w="32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776920" y="3286080"/>
              <a:ext cx="484200" cy="276480"/>
              <a:chOff x="5776920" y="3286080"/>
              <a:chExt cx="484200" cy="276480"/>
            </a:xfrm>
          </p:grpSpPr>
          <p:sp>
            <p:nvSpPr>
              <p:cNvPr id="244" name=""/>
              <p:cNvSpPr/>
              <p:nvPr/>
            </p:nvSpPr>
            <p:spPr>
              <a:xfrm>
                <a:off x="5776920" y="3328920"/>
                <a:ext cx="484200" cy="176400"/>
              </a:xfrm>
              <a:prstGeom prst="rect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86360" y="328608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6" name=""/>
          <p:cNvGrpSpPr/>
          <p:nvPr/>
        </p:nvGrpSpPr>
        <p:grpSpPr>
          <a:xfrm>
            <a:off x="4846680" y="703080"/>
            <a:ext cx="2840040" cy="2859480"/>
            <a:chOff x="4846680" y="703080"/>
            <a:chExt cx="2840040" cy="2859480"/>
          </a:xfrm>
        </p:grpSpPr>
        <p:sp>
          <p:nvSpPr>
            <p:cNvPr id="247" name=""/>
            <p:cNvSpPr/>
            <p:nvPr/>
          </p:nvSpPr>
          <p:spPr>
            <a:xfrm>
              <a:off x="6394320" y="1177920"/>
              <a:ext cx="40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ndale Mono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200560" y="703080"/>
              <a:ext cx="2486160" cy="197316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611760" y="1587600"/>
              <a:ext cx="0" cy="1908000"/>
            </a:xfrm>
            <a:prstGeom prst="line">
              <a:avLst/>
            </a:prstGeom>
            <a:ln w="32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46680" y="1554120"/>
              <a:ext cx="1762200" cy="0"/>
            </a:xfrm>
            <a:prstGeom prst="line">
              <a:avLst/>
            </a:prstGeom>
            <a:ln w="32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776920" y="3286080"/>
              <a:ext cx="833400" cy="276480"/>
              <a:chOff x="5776920" y="3286080"/>
              <a:chExt cx="833400" cy="276480"/>
            </a:xfrm>
          </p:grpSpPr>
          <p:sp>
            <p:nvSpPr>
              <p:cNvPr id="252" name=""/>
              <p:cNvSpPr/>
              <p:nvPr/>
            </p:nvSpPr>
            <p:spPr>
              <a:xfrm>
                <a:off x="5776920" y="3328920"/>
                <a:ext cx="833400" cy="176400"/>
              </a:xfrm>
              <a:prstGeom prst="rect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1040" y="3286080"/>
                <a:ext cx="60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3870360" y="887400"/>
            <a:ext cx="4060800" cy="2954160"/>
            <a:chOff x="3870360" y="887400"/>
            <a:chExt cx="4060800" cy="2954160"/>
          </a:xfrm>
        </p:grpSpPr>
        <p:sp>
          <p:nvSpPr>
            <p:cNvPr id="255" name=""/>
            <p:cNvSpPr/>
            <p:nvPr/>
          </p:nvSpPr>
          <p:spPr>
            <a:xfrm>
              <a:off x="3870360" y="1274760"/>
              <a:ext cx="1214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(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h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62880" y="3505320"/>
              <a:ext cx="80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849920" y="887400"/>
              <a:ext cx="3081240" cy="2675160"/>
              <a:chOff x="4849920" y="887400"/>
              <a:chExt cx="3081240" cy="2675160"/>
            </a:xfrm>
          </p:grpSpPr>
          <p:sp>
            <p:nvSpPr>
              <p:cNvPr id="258" name=""/>
              <p:cNvSpPr/>
              <p:nvPr/>
            </p:nvSpPr>
            <p:spPr>
              <a:xfrm>
                <a:off x="4849920" y="1427040"/>
                <a:ext cx="2190600" cy="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7050240" y="1452240"/>
                <a:ext cx="0" cy="2041560"/>
              </a:xfrm>
              <a:prstGeom prst="line">
                <a:avLst/>
              </a:prstGeom>
              <a:ln w="3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5019840" y="887400"/>
                <a:ext cx="2911320" cy="1806480"/>
              </a:xfrm>
              <a:prstGeom prst="line">
                <a:avLst/>
              </a:prstGeom>
              <a:ln w="158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840360" y="1052640"/>
                <a:ext cx="405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cc"/>
                    </a:solidFill>
                    <a:latin typeface="Andale Mono"/>
                  </a:rPr>
                  <a:t>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5776920" y="3286080"/>
                <a:ext cx="1276200" cy="276480"/>
                <a:chOff x="5776920" y="3286080"/>
                <a:chExt cx="1276200" cy="2764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5776920" y="3328920"/>
                  <a:ext cx="1276200" cy="176400"/>
                </a:xfrm>
                <a:prstGeom prst="rect">
                  <a:avLst/>
                </a:prstGeom>
                <a:solidFill>
                  <a:srgbClr val="ffcc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257880" y="32860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5" name=""/>
          <p:cNvSpPr/>
          <p:nvPr/>
        </p:nvSpPr>
        <p:spPr>
          <a:xfrm>
            <a:off x="304920" y="533520"/>
            <a:ext cx="3200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Quando  h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   accade ch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2971800"/>
            <a:ext cx="2895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.  la retta secante tende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alla retta tangen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31840" y="1295280"/>
            <a:ext cx="3273480" cy="1238400"/>
            <a:chOff x="231840" y="1295280"/>
            <a:chExt cx="3273480" cy="1238400"/>
          </a:xfrm>
        </p:grpSpPr>
        <p:sp>
          <p:nvSpPr>
            <p:cNvPr id="268" name=""/>
            <p:cNvSpPr/>
            <p:nvPr/>
          </p:nvSpPr>
          <p:spPr>
            <a:xfrm>
              <a:off x="231840" y="1295280"/>
              <a:ext cx="32004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  il rapporto incrementale       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tende alla derivata, infatti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536760" y="1905120"/>
                  <a:ext cx="296856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h</m:t>
                          </m:r>
                          <m:r>
                            <m:t xml:space="preserve">→</m:t>
                          </m:r>
                          <m:r>
                            <m:t xml:space="preserve">0</m:t>
                          </m:r>
                        </m:lim>
                      </m:limLow>
                      <m:f>
                        <m:num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h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h</m:t>
                          </m:r>
                        </m:den>
                      </m:f>
                      <m:r>
                        <m:t xml:space="preserve">=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0" name=""/>
          <p:cNvSpPr/>
          <p:nvPr/>
        </p:nvSpPr>
        <p:spPr>
          <a:xfrm>
            <a:off x="304920" y="3962520"/>
            <a:ext cx="86104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Quindi:                                  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La  derivata  di  una  funzione  in  un  punto  x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  è  uguale  al  coefficiente  angolare della  tangente  al  grafico  della  funzione  nel  punto  di  ascissa  x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Arial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04920" y="5029200"/>
            <a:ext cx="8839080" cy="1600200"/>
            <a:chOff x="304920" y="5029200"/>
            <a:chExt cx="8839080" cy="1600200"/>
          </a:xfrm>
        </p:grpSpPr>
        <p:sp>
          <p:nvSpPr>
            <p:cNvPr id="272" name=""/>
            <p:cNvSpPr/>
            <p:nvPr/>
          </p:nvSpPr>
          <p:spPr>
            <a:xfrm>
              <a:off x="304920" y="5029200"/>
              <a:ext cx="8839080" cy="10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990033"/>
                  </a:solidFill>
                  <a:latin typeface="Arial"/>
                </a:rPr>
                <a:t>Osservazione:</a:t>
              </a:r>
              <a:r>
                <a:rPr b="1" i="1" lang="it-IT" sz="1800" spc="-1" strike="noStrike">
                  <a:solidFill>
                    <a:srgbClr val="0066ff"/>
                  </a:solidFill>
                  <a:latin typeface="Arial"/>
                </a:rPr>
                <a:t>                                                                                               </a:t>
              </a: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Ricordando che l’equazione della retta passante per un punto è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y – y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= m (x – x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    allora l’equazione della retta tangente al grafico della funzione  nel punto di ascissa x</a:t>
              </a:r>
              <a:r>
                <a:rPr b="0" i="1" lang="it-IT" sz="17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 è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2514600" y="6019920"/>
              <a:ext cx="3962520" cy="609480"/>
              <a:chOff x="2514600" y="6019920"/>
              <a:chExt cx="3962520" cy="609480"/>
            </a:xfrm>
          </p:grpSpPr>
          <p:sp>
            <p:nvSpPr>
              <p:cNvPr id="274" name=""/>
              <p:cNvSpPr/>
              <p:nvPr/>
            </p:nvSpPr>
            <p:spPr>
              <a:xfrm>
                <a:off x="2514600" y="6019920"/>
                <a:ext cx="3962520" cy="609480"/>
              </a:xfrm>
              <a:prstGeom prst="rect">
                <a:avLst/>
              </a:prstGeom>
              <a:solidFill>
                <a:srgbClr val="dce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29080" y="6099120"/>
                <a:ext cx="3733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y – f(x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) = f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(x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( x – x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 flipV="1">
            <a:off x="5342040" y="260280"/>
            <a:ext cx="1792080" cy="2586240"/>
          </a:xfrm>
          <a:prstGeom prst="line">
            <a:avLst/>
          </a:prstGeom>
          <a:ln w="255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286240" y="237960"/>
            <a:ext cx="1495080" cy="485640"/>
            <a:chOff x="5286240" y="237960"/>
            <a:chExt cx="1495080" cy="485640"/>
          </a:xfrm>
        </p:grpSpPr>
        <p:sp>
          <p:nvSpPr>
            <p:cNvPr id="279" name=""/>
            <p:cNvSpPr/>
            <p:nvPr/>
          </p:nvSpPr>
          <p:spPr>
            <a:xfrm>
              <a:off x="5324400" y="237960"/>
              <a:ext cx="94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cc"/>
                  </a:solidFill>
                  <a:latin typeface="Arial"/>
                </a:rPr>
                <a:t>r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6171480" y="532800"/>
              <a:ext cx="609480" cy="190440"/>
            </a:xfrm>
            <a:custGeom>
              <a:avLst/>
              <a:gdLst/>
              <a:ahLst/>
              <a:rect l="l" t="t" r="r" b="b"/>
              <a:pathLst>
                <a:path w="432" h="336">
                  <a:moveTo>
                    <a:pt x="432" y="336"/>
                  </a:moveTo>
                  <a:lnTo>
                    <a:pt x="192" y="33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99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86240" y="3808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cc"/>
                  </a:solidFill>
                  <a:latin typeface="Arial"/>
                </a:rPr>
                <a:t>tang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848720" y="65372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DERIVATE    6/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4160" y="1841400"/>
            <a:ext cx="4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ndale Mo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10:40Z</dcterms:created>
  <dc:creator>Piero Bruno</dc:creator>
  <dc:description/>
  <dc:language>en-US</dc:language>
  <cp:lastModifiedBy>Carmelo Ciaramella</cp:lastModifiedBy>
  <dcterms:modified xsi:type="dcterms:W3CDTF">2005-09-28T12:44:56Z</dcterms:modified>
  <cp:revision>79</cp:revision>
  <dc:subject/>
  <dc:title>Presentazione di PowerPoint</dc:title>
</cp:coreProperties>
</file>